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3E2-DB53-44D4-830C-DAB621FC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630-D9E7-4883-97C5-4FE23E60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174B3-340B-46DF-973C-8B23DF9A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EE661-723E-4833-B661-A26727D9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E444B-684B-43CF-93DF-55EA5B48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AF891-AB7F-440A-85D9-C13C4313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45926-5427-40FD-9062-6DFECF65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04E3C-4801-4C70-A489-7B34B03F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9E653-C02D-4A0F-BE53-C4D5BA82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5D72E-7983-49E0-8B40-7DED2858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86F6E-940C-4E0E-BCAB-0E7214AA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D547B-EBC9-46DC-85A3-68648A40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3F4-23AD-4C33-A705-E09E0E0D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265C9-AD9C-451B-8F8C-1340F53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79364-B94D-48F9-9736-A86D9785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C5CF1-7163-419A-9B23-751ADD74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23879-6BA3-43B1-B149-C0EBBE0E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77F0C-85A7-4034-B827-130F648F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76B60-3970-4ECE-856F-ED3DA84E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C290D-5FB1-4A8F-BDD9-DB4E9E75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AADF3-3AD9-4F8A-9022-8E1E647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1C929-1299-462E-B698-6691348E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840C0-30CE-4407-AC95-692B6CCA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68F-815F-4B0C-91B3-D538F675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F422E-49CE-465C-9F4B-2E8CFE88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1B91A-23F9-4B64-A91E-33F3A4C5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F5012-13E1-4D47-9658-40869C4A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6840A-2DC1-43DC-A97D-C1069B07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F89B0-1796-4E38-BA1A-5E5F08FB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46EA2-6336-4C8E-9183-013B38E1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BE870-DACC-48FD-8011-E1E52FB6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5DA0E-E0D5-4F07-B9ED-3A433993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C46E7-A4A5-4CAE-A7EA-C3243CEC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139D5-E0C8-4E81-A641-0CFB830D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AD3F-3DCC-4615-8603-42067E6B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089F3-CAA0-45B2-B0EE-F31C1C4C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98B6B-56C6-48BA-BBFE-7A3A080F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2D87F-E3BB-4B0B-BACD-0792D0EB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98A12-235D-4A4F-8C8F-B14EF3F2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DD858-424D-4D29-8FE1-1E8E590B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E7CC1-6604-4A22-AD8B-D8847A5A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646A4-3D47-468F-9401-9EFF6F4A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D1C88-3B59-45E5-B40C-C36DCC59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171AE-6A09-4B80-8A05-92EB95D7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4CAFB-F8B9-4C21-BBEA-ACA1BDEB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2694-7A11-4CC0-B836-EB415B73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8E7EF-EA14-404A-BF47-2713793F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2FEB2-3C32-420C-9F85-E467EC26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0A570-2B54-4429-87AF-28BA5577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43F7D-49C5-451A-8206-C83E15A0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058F6-BCEA-4836-BAEC-B8BC16C6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B0740-18DD-4CB9-9842-714373EF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6A105-6008-459C-BE1C-2C01F26E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E3076-1661-4739-A453-729352BF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9C573-BFF2-462B-9F66-059CD7FB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501E1-2A15-4F2D-AA26-0612C256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5F48-0911-4FD8-97CE-F9D95559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EA099-C1A9-40AE-923B-391A585C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3089E-0F77-4807-8DB9-6D46D09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9F659-9C4A-4FFC-B9E9-8EC7A17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6EC67-65E6-46CE-BCA7-FD19915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B57BA-BBC7-444E-9B6B-5CFD77D3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5671E-675F-4F4F-8AD3-FB1C2F2E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8AD5D-A095-4FD6-8CFC-B797664D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A6717-ACC1-4D6B-991B-28EDD4A9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A2BD0-1A3F-40AE-B21D-1BA2A761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2793F-DB95-4608-98A0-D8BA8D0E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F021-9402-41D6-8332-92059297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66DC0-3C7D-4207-BD95-A5B976AD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51BED-34F0-4A76-A526-A6CFA037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5514A-F434-4E64-A111-BC7CC4A0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B96D6-20E2-49DA-A01F-BDB34DA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4A270-A5B1-4DA3-9AE4-F2F22D62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8E7B24-6846-43AE-912A-B4E0EABE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B9736-B172-4F6D-A114-F20DF751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8CA67-2CD9-4785-8B2B-3882B435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93E0C-D1BF-45C1-A998-67EF9317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E785A-D395-4B79-9F4E-3C7DD32D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E770-8539-43AD-8AD2-D0E2A23F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9FCC6-16AD-480A-84DB-94D20AEC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E87BF-DF02-4AB6-99DF-A273E9E7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7D4700-2D49-42F0-B99B-BA9B330F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990AD-04F1-47C4-83A1-E15F2A0F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79446-446C-4826-8D64-D1F14082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1AD51E-7ADC-474B-8595-3F2E01AF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61A21-7D3D-4085-901D-B202F3D6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B83A1D-9E9C-454D-AAE1-6738AD36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177F01-D9CF-44A5-A49A-1D3098C0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85F2D-9BB1-40A8-8F1B-655A4586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2EB6-78CC-4F86-B90C-F9A07808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87E7B-49C1-4FCF-AC9A-B377A872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2869FA-14F0-436F-AF94-FB8E54A2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FBE1B-99FA-41B9-8FD9-09547667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31A5B-E2F0-43CF-8A73-EB94D5BD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35B2A-F12D-4866-8DEC-6C97C1F8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8AA4C-421D-4AA7-BA2A-4CFDCE6B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1A526-8B47-4072-8FE4-D1A80BFA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D46D6-35BC-4081-A366-6BBBA0D3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DF554-FA7C-4E0E-B846-5AB15E7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EEA02-F1EA-4BC7-B8D2-8E3639CF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BE96-D2F3-4E8F-97FA-55919D7A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E51CD-F0F6-4813-BC23-CCB6AB4C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F52F7-FC4E-458F-B7C8-4FFCC695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7FAD3-FCF7-4BA8-A9EA-C0C5EF0A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C4E99FA-250F-4623-A57E-9D7AB8CB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6F6A67-F785-443D-8759-B3E70EA4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8FBB96-EEFC-4FD6-B744-24D2E1A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625946-F6FE-4933-B3CD-5564CF35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2CF4E0-4DB9-4344-88E0-6F3CAE18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98F7F8-6635-4AB8-BC2F-42D8C26A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F89024-CBBE-4F7D-A6A7-AD19041E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284-F4C0-437A-9D5B-25BD6596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D479-6D29-4036-A9FA-57979BA0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3B4C48-8608-43BA-A384-AF8B00A3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DCAD98B-E4C5-455E-8E0A-7A156CBF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4DB995-8339-4F05-91B8-9AF54AED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B53B78-4D2D-4C5D-83C4-79235B01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6E31C6-C56C-4A60-A01C-4A1C307D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B0BE3A-F161-4BA3-BB38-130ED4DE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80E08-82D8-42B0-8E26-74B693E2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E6633-9255-4CA5-94B0-87A284BE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9B59EB-CBCC-41FB-B958-7D9CD9E6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76239-F184-47A7-86EA-6D9ECD7F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BCC8-7764-4DD0-A3C1-0D3892B6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2DE960-EF79-4F78-8A65-531B8DE3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00F23-7B0D-4D25-A4F3-6F75B53D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5CF50B-AE44-4CF1-9E4D-33A39D84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EA470B-C76B-483C-8DDF-741A0A64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B5218-3A4B-4F14-ACB2-498DBFCF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39DD3-A237-431F-943A-1DF356FD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E22AC-F7D1-4ADB-995B-A776B786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EF7F-DEC9-453B-8F84-FFA8FEDE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53B3-FDDE-427B-9EE3-D387F358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63F7-F2A9-4A72-90B7-9F50E693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A199-E4CD-4C12-8CB3-52528A2E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7A56-EDA7-49D2-B685-F2150FE6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855D-4A42-4E87-BF77-CACC953A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2158-E7E1-467E-A423-FB88C8C8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8E53-AFB5-40FF-8E03-2BFDD290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B7D-4736-40F0-81A2-ABDCDC38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D920-7038-4928-B665-13DC83F6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2BDA-7EA2-42F2-A386-DB4A64DB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464F-7553-42D5-BF77-3020FB1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2480-ADE8-4B99-8F59-0156DE8F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D677-C59E-462E-B0E2-A3A6847C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1215-56EB-4CA7-B65F-CB438C94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E6CD-670E-4B63-82ED-9696A454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7312-C5DC-444C-8318-44F8F320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0D1D4-E643-4BFB-925B-B9A9BCDD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B0C4-EC28-4E55-BC58-2B8BB202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6A7-B6CF-4D0C-A939-3C92B95B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4C370-718E-478B-AA26-D054E385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D67A-13E4-4B2C-B02F-062ED541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86EB3-0402-4497-9461-E6B3579F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AEDE-2ED7-43F9-AE18-293532EE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045E8-BF9E-4BA3-A9A4-6F25BD74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ACEF0-1521-4BFC-AD3C-A4EFB94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5AA0B-63D9-43C5-8F15-5EF35519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85F07-2DE4-4743-82E2-2C409E67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7957-AB86-4437-8715-59309419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93E08-F5B3-4302-ABB4-80D27704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DF0-5BAB-41CD-9D88-E68A5BFA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DAD34-2F5E-41B5-B3DF-25714D3D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7D0F-AEB3-47E4-9E3F-C0823285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108F-C20C-44ED-9FCC-68254401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6201-7711-4C95-8DA1-828AF75D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918F-6EF1-44F4-B801-972ECB07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D592B-0D49-45C5-8833-34C48D82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029B8-E26C-4513-BF83-987B016B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82196-60DF-4119-9EB3-5B91428E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D967-462D-4FD3-9B3C-8BA90A2B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00DB-11DA-4437-A18C-DBFD22F7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AE8-A1F4-450F-AB79-2C0172E1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788E4-4EF0-4198-B08B-39503079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8DCA3-2BB9-435C-A4E1-414DDBF0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42C31-537E-4977-8F73-2FC510CC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D2556-4E4B-4E65-84CA-E911A93B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16D4-2CE8-442B-9510-CDC2708C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05F09-9B7E-43BE-B0E8-12E82F03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FAA9B-7E7E-4A03-B62B-9CB53F2A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A3CD1-ED35-4D72-900A-9C6B9D84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1C4B-2165-4E72-8F26-C3246B8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18AD6-9586-4C55-9F36-71571CE1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721-CE42-46FE-93FF-662CBD8F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EF322-F569-4F79-BE1F-52285E59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BE9C-E78E-4BF0-B292-A1CC4CEF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7520-D913-4C43-A67B-AA8218F3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2AA86-C259-406D-B825-289EC94F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37E91-E3CE-407D-9BA6-03678AB8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1CD2-DA74-4E20-9021-D9BAA57D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DB25D-52E4-4C4B-9BB1-7F5A5572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E518C-0DFB-4E43-80D9-677E7916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2DA75-2E45-4BBC-83FA-B5896A72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D243B-5500-4303-A684-BDAEB55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4FE-BEFC-4352-AC57-4974F5FD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914C4-0F0B-4B15-8BB7-C9D87C1F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D0DAA-4604-47CE-8842-A0D68FD9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E9A27-A5B0-4D38-B8A4-39AB796C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1E174-7399-4A2D-A2A9-AD95D444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8A425-9F8D-4720-857B-D16FF938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0F900-5FFA-44C5-A780-3BE95B84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93FAF-DEB8-4EB1-8826-7C934053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B730E-FE58-46C2-92EC-E6AF551A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4DE5D-975C-4464-8034-DC8A343C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1316C-6FAB-45F0-B023-E3186CC1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4AA-522A-43D6-BE8C-F8311C55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2DC5B-727E-4616-8817-3A671580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B0639-DA63-40D7-B431-335B1E56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A2B09-BF46-4C91-A0AC-223AA5AD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93BAD-FCAE-44C3-AAE2-B2506653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089F3-D43B-4C2B-AC6F-41403E59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4A72-747C-4244-81D9-04892DDB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4C184-BE78-4BD3-86DA-89CFE776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44519-3442-4E1D-AD11-20C00615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FC421-381C-4B16-AEA6-C7CC4473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B7E39-2A09-4DA6-8B35-E868B38B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B4F3-A8FA-4D45-85EA-3A4420D9839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7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E507-A768-4620-A985-9A69DD778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2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3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5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0900-596F-4F6E-82BC-6F7AFCEDFE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0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11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E8A0-82B1-4147-BE89-0CA4C01498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8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6540-2E16-4DA6-9154-32DAC88785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4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7838-6579-48E6-BA81-547B9DA7B8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dt" idx="4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341D-164C-4ABD-A20D-74569C3F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dt" idx="4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80E3-B2CF-4E45-A659-148DA6F92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7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26EF-E2E4-4E0D-BA03-4C631DD6C2A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4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4743-9325-498E-8BA7-FD87EC341D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BB4D-B489-4BF8-8E9A-85293BC137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5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6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E557-B688-4E79-9386-8944889AE8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CE9F-747E-415D-9A92-357E5ECEBD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1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4B5C-74C5-4FF3-9264-B6EE7050F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20D8-CD5E-423B-AFD3-85CDAB2CD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07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1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A629-B160-44A0-964F-5E5778AF85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61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62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6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4E5D-1D10-4556-98F1-D565C6C7B7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1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DC2D-C92E-4D0D-A5EA-9B54E8D5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N FACTS OF THE MILKY WAY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easurement unit in space is light yea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ilky way was first discovered in 197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galaxy contain almost 400 billion stars total known so fa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USTERS IN THE MILKY WA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one hundred fifty clusters in our galaxy (the milky way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efinition is – 1. A small group or bunch of something.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A group of galaxies or stars that appear near each 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BULAS IN OUR GALAXY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066320" y="63792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TS OF PLANE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ury is the closest  planet to the sun, and has only dirt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bon dioxide is venues main gas this planet also has very little oxyg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th has million different life forms inside of its atmosp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use to believe before they had a lot of information that  mars had Martia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tronomers didn’t explore Jupiter till 197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storm was not saw on Saturn till 193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 FACTS OF PLANE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us has no solid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ptune has a total of eight mo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warf planet f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 know we have  three dwarf pla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to use to be a planet though it is know a dwarf pla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L ABOUT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301680" y="538200"/>
            <a:ext cx="8510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RESOURCES US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io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y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EBSITES USED 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members.nova.org/~sol/chview/chvd.ht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20:48:18Z</dcterms:created>
  <dc:creator>briana</dc:creator>
  <dc:description/>
  <dc:language>en-US</dc:language>
  <cp:lastModifiedBy>aes</cp:lastModifiedBy>
  <dcterms:modified xsi:type="dcterms:W3CDTF">2009-04-21T18:12:01Z</dcterms:modified>
  <cp:revision>6</cp:revision>
  <dc:subject/>
  <dc:title>FUN FACTS OF THE MILKY WAY!</dc:title>
</cp:coreProperties>
</file>