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D06-CB23-463A-A1B8-C72F3537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8D7-D375-4BF8-8110-15A03784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35CB0-C248-4FB1-B9FD-8DBCC95D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7C70C-46D8-4EDE-92E5-1E12E8DB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F5CC2-C5E6-40C5-A5E2-2B448B9E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6375D-0E42-4730-A37D-BEEB9CC8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FA8EB-0F55-4770-B04C-3D9F663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90D69-643A-4C67-9E0C-755B3844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015FF-CAEF-4B0B-9411-EDDF7404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A3625-79A9-4E93-83FE-6A44136B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55028-97E0-4D5B-8284-A3F77DFC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D4AA3-E9F9-467F-9706-3504593B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11E-6572-47EC-B480-A678E83E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782AE-AD5C-4A30-98B8-6D2CFD44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2E02D-8511-43CA-950D-D76B72E3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CEE20-26E0-445A-8B5D-9B1B5E50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DF674-7E39-437A-92BB-38D9F8B7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9F369-5E45-4677-A836-6D0158A0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A18CE-9852-4D76-8957-D3BF507B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9D5BB-966C-4B63-AE74-11A80C6D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A2E43-F230-4BED-A722-FF1FED52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FE8A9-4C7C-41CA-B660-9E6F3F0B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13D24-9A3E-4E3D-B6EC-B9D7B83F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6C0-4734-46A3-BCFB-CB187F82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7B370-A04E-4424-AE64-86645ADF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31747-F1A9-49B1-91AB-1922AABE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2BDF2-2559-4B0F-8914-BCE595F3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1B394-285B-4608-872D-17E41068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DE866-E0AA-4218-87B1-702571E9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065D9-3935-4F66-BC94-F779D34F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4A54A-F25E-4A3B-9DF2-6D962BD0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B3B2B-1173-49F4-8FAC-D2BE8748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5F88D-CF2E-41A0-A708-BC751E3A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3D2DE-9B27-4864-ADE3-F20F5C19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B19-9A28-4615-9610-21AF1B50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B0B5A-A283-40C7-BE0A-5BBC68B8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F819D-00BB-446D-AE9C-C96B9AAA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7BA9C-24C4-41DB-A7D0-AF274BE3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2BD25-6337-4FB8-81A1-90B59468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C9583-B27C-413C-AB92-9A53AE47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1566B-AF98-42B7-92D9-FE78E7E6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1D0F8-54F0-4730-91BD-AA59628E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F0EC8-2F3D-44FD-A2AC-D7E293D6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B45D6-85B9-44CD-A271-B9C8DA7B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BFAEE-3EAD-45CB-8818-17065DBE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9A5F-2F7E-4F62-881A-F68BD8D6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F272F-727F-4CBE-877D-AA083DA5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1CD27-C5EB-427B-957B-D44A98A7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B3587-19E5-43C8-9905-A293AE79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28A1F-10BE-4DEB-AF47-739F142C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2EF0D-A70F-46FD-A2F0-CBB53CB8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B750C-D858-4340-B337-05D7CBFC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4C3F4-774E-44EE-AA12-4BC4ADC5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6561C-2D06-46B3-864E-39AF752F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45C2C-9D8F-42D0-893C-A6E6ED52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85794-5C0D-4CF1-8C40-4DAAFA9F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2AAD-8BF9-497F-901F-2002BAB5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40F79-3EE2-471A-ADAE-A62E7EF2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76045-A78B-4599-9D17-24FD41F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AA758-D069-4A58-8FD0-DBD33D96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464F4-E643-4CDA-80A3-39DA383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99C80-DB9A-4921-ABFE-BED6BD6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5E58F-734D-4F01-BC3E-20B6284B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8F6DE-8864-4DD1-9B37-D324452F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9A07F-BB5D-496F-851B-A6027E88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19941-5883-4BFC-B4AA-E630526D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FE00C-3932-49E9-BB2F-28D63C80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4004-3B12-4E53-B42D-C16814D7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65A71-AF0D-488E-A765-A8691E1F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BE328-8E08-4C01-9E60-2AB5AB5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E38B9-3120-4516-AC82-A7E3B9C8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864B8-F563-4E50-96E0-31FA5F1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FE9FD-897C-44A0-8C3D-D3F9D296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6BC48-CDEB-41FF-B651-DEAA1312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88900-FFFF-464C-B119-F4D89DA5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4D69C-3F8D-4261-AAE7-92E16F03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7C4AF-7285-409E-BB78-4932BFE5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E8F7B-5CB6-4619-88BA-A20ACF8E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60BB-0959-44C3-844A-D8CC09F7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98C7C-E57D-4C9F-BBF6-3F17D643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ECF05-0BFD-4229-A419-C3B1910A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021E3-09DB-40A7-A2EE-4D17390D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3CACA-59D7-40A7-88D3-43FEE2C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1F581-AAF6-4828-82CE-71DB64E7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0EAAB-1038-49EC-A476-15390E77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13F56-DA74-4059-B44C-C1938EE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57B21-DCF1-4D13-8EDD-65EA33E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19AC1-C6A1-4D2C-8D99-846BF904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C8772-C6CB-4135-BF7D-63F0AFA7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E580-76EF-4284-BCA1-2FA75D67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0FB22-2F9D-4F38-BCB8-89FFBC74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74C27A-1577-4BED-AA25-83BAB9EA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E9AA8-01DC-4511-90B5-11888A0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DE7F7-1100-4A5B-AE87-17B07BF1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FCA2F-7F4A-4E92-A9FA-5973D0B2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F9A3AE-334C-4000-90C7-29CC510D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36497B-9ACB-47BC-A5DD-F170C634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FE77E-4A14-4178-8FD3-3C29A48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FCDCB-FE57-4C3F-8A5B-47965D7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FA4DB-500B-4C43-9891-23BDD9F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2570-73C6-4781-8D14-0FFEF00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266F1-3A68-43FA-8DDE-39DF612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9A397-10DF-4224-8764-1DA46AB7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C9F51-4095-4A89-B977-DB76BA83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0999F0-1198-4176-B36A-1CA9766A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FC9C64-9121-4CF8-A390-AEE7B682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7AF62B-D1C6-4F12-9A5B-D62BF935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C77AE5-B536-44C6-B020-AE90F138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D9D0D8-06F0-4C4D-B4D0-341E3FE9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99372B-68E9-49DF-8B45-49EA5D92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250E8D-D68D-4AC3-B67A-8074173C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A05-20ED-44D4-ADD6-FA25F02C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E295-25B1-4960-A93C-0641368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428FF7-DE7B-4502-8723-A3165BBE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E434EE-F805-46EB-AC1B-0E908971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53312D-5008-4698-AEBC-82DE5C0D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30A7A9-E2C2-4751-B364-9EC7E4CF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8A10F4-F2EB-4B29-A75F-0E3B9195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7DB57-9D14-46DE-879C-44336F93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ED34C9-DBC9-46E2-BCA7-D804B6B1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33E76-97A3-44DC-9BD8-02E67C2A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B571B-44E9-4719-B346-A85FC7E4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BA92F-D62A-499E-B56C-D98C42F7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FEDC-1554-4FC9-9D31-55D84D15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22C27-4F88-4A82-90BA-0AEC562F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AF2EC-9BF2-4E53-A096-29C3CADC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8E291-44AA-410D-ADFD-BD984973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D87F2-10BB-4D06-934C-4F082A11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F4CF4-43C3-4F80-9C2E-27CA09B0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B6746-5D6F-40F9-B890-BAA04EA9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5A55B-FF37-4931-9463-C089A238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4E17-7C89-47B9-9877-61694B6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D1D5-7AE2-4E32-BDA3-8172FBAF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238E-8125-42AF-9CE4-D3938371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07097-C1D6-46E0-B2E8-8A96D513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EF62-30E8-451A-B8AA-508510C3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8939-18A3-440A-B076-29BE1ED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30A9-3074-440D-B6A0-BE60E49D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C330D-CB66-439C-B223-9A45713E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9EB-A099-4702-8A40-8AE086B0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1332-93AC-437C-9EDA-B34490F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3E0E-1FBA-43DC-B000-515FD85F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5EFA-10E0-473A-899A-915E8E5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F931-3C9F-455B-AF68-6C34D4AC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FEB83-3FA0-45A3-91A4-D30FBE4C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0BB3-C1FE-4C66-B03D-2E151024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EB91-BE95-4CE7-B355-75990C77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8B915-69D5-4DE7-AA6B-1AAC5FDE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A924-E2E9-4647-BFB9-FC4FC386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7D5F-9626-448C-A36F-77370335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89F-41DC-4712-8E06-A64D1C02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26D3-DC9F-4CCE-A532-4920EBD8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5C7A8-6D66-4A88-B9E9-7E12D15F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A4EC-27B1-42CB-A95E-3FE5B1D0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87F1C-BF13-415F-9A04-FEB1DB1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F5AD-CF99-4111-81DC-623D926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AC422-916E-4160-BA3E-F11F4970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69CE4-4750-4015-BD2B-7AB75476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91E1-476C-4520-B4EC-FBC26620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1155-816B-429C-9C4A-025385C8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B56C-28E4-4258-9714-2B3FAE78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98E-BB10-41E6-AD42-92784BCE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D366-D667-463C-8227-62020CE1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414A7-4E7E-4A17-B274-AE959BCF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CFA61-F168-4CAD-A87B-B663D0E6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FAB67-618D-4026-AC78-DDD9C82D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3B10-830E-4ACB-BF15-6D4284C0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AE308-4049-4DE3-A64E-0F40F78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D475-14E6-48A3-9189-A7E31A4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8D71F-6919-409A-BDC7-A3CC7A04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3FB31-959F-4777-8BEC-10AEF0E1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1C30B-EE1A-4016-B167-9C5D9B63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AAD-6D7A-4674-BD7D-0AF68DA5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779BB-E954-49FA-AF24-45ECE2FA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4244C-ED77-4AD9-AA09-A5D7D8D4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1EE50-6606-43FD-8FA1-44CD11E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D164B-A730-46FA-9BDA-A99E4E12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4116B-1695-4F1D-B6F0-F4D9648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A6A08-96C5-4EFC-9D5B-16322136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50C02-A54A-4B92-B781-5FC178A6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81837-3A29-40CC-A990-25ABFF5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7B1D6-1771-4EB6-9531-CA31B0D5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F139A-995F-4203-8A4C-C4973A9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29A-22C0-4375-8466-F688453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3589F-B240-41E1-87C7-2C39B92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95F0-E662-4BA0-9E20-460A6529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C041-0A83-4700-838B-E7995049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3DB60-DFB5-44E0-B59B-013FF026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E4C1-4E4E-4709-BD74-2CAB20B5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DA24D-6E0E-4083-8412-B240AF15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C6450-C137-4722-9E41-1B9D179F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59E37-D759-4F7F-A1FC-59AB6D7B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44399-AFEF-4B1B-AD76-4E142E3D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A9015-EB40-41C7-9C3B-A076452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253-ADA7-43B1-89D6-D49DEEA3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02EAF-CF71-4C6E-92DB-438BFA1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3A9B6-9B30-44DE-A294-F15A8292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0CBD-86AC-4D5B-B963-BC048499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E3EF-7655-4651-9A54-4680ADEE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DFFE-27EB-45E2-AA4B-A9B2D325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C23C9-D9B9-47BB-972B-47E28306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A37D2-A334-420E-B3CF-0AD5B88A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AC9C3-D393-4BF6-ABC7-835F8334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1F043-D8E6-4F62-BC98-E5EA0D76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CC8DD-0E4B-412E-9C1A-F3490572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35E-A3E6-46C6-B845-626B2D43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6CC4C-77D8-4B3C-BEF3-6A6A8C4F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5FC5F-DE76-4601-96F1-A192BD8C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E7C2-00B5-4AD7-BCFF-91B49B8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912B6-4D4A-476C-BF60-D0E1E3B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FF2F7-1352-46BD-BA67-D3956D85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E7D82-6DF6-40DF-8B94-8E193CBC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79247-FE03-4B3C-9F10-9D215D1D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D55FE-7CED-444E-9602-6DDCF86C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B24D6-C4C1-4169-B5B6-E9F3B53E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D157A-20B5-453F-AE91-F9C4F2FA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8272-4B55-481C-A1AA-8221940E7E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7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0041-2C80-4DCA-BEDB-04DE4FC4A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2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3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5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6147-912B-4ACF-8629-7B3C9DB2E5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0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11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640D-9F3B-44CE-B9D4-5D3E7F948C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8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365D-0350-4637-9A10-F934594490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4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878B-6803-4381-96A5-762F4D5D7F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4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8FA2-F203-4407-B61A-3B5A112DB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BD26-B348-47C5-8A39-03207C86D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7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F706-8206-41B6-AC9C-1173D0508C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4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5B3A-EDC5-43BD-B73C-E485C31602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BA86-2B49-4A1A-BB8B-B2F365074B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5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6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DB36-24FE-42F8-9DB4-73890C6C06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5E87-959F-4C8F-BDD1-51886AFE06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7611-226F-41F1-8408-2A580399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0EC5-7A8C-4ADC-9120-85BC944D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07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1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41BD-F139-4475-BB12-C5EA1C9EFD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61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62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6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DB06-D369-439D-B454-A1A3E9DEF7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1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9DD7-B306-4955-B8FF-D5D4210F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 FACTS OF THE MILKY WAY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easurement unit in space is light ye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lky way was first discovered in 197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galaxy contain almost 400 billion stars total known so fa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USTERS IN THE MILKY W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one hundred fifty clusters in our galaxy (the milky way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efinition is – 1. A small group or bunch of something.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A group of galaxies or stars that appear near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BULAS IN OUR GALAXY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066320" y="63792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S OF PLANE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ury is the closest  planet to the sun, and has only dirt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 dioxide is venues main gas this planet also has very little oxyg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th has million different life forms inside of its atmosp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use to believe before they had a lot of information that  mars had Martia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tronomers didn’t explore Jupiter till 197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storm was not saw on Saturn till 193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FACTS OF PLANE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us has no solid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ptune has a total of eight mo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warf planet f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 know we have  three dwarf pla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to use to be a planet though it is know a dwarf pla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L ABOUT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301680" y="538200"/>
            <a:ext cx="8510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RESOURCES US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io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y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EBSITES USED 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members.nova.org/~sol/chview/chvd.ht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0:48:18Z</dcterms:created>
  <dc:creator>briana</dc:creator>
  <dc:description/>
  <dc:language>en-US</dc:language>
  <cp:lastModifiedBy>aes</cp:lastModifiedBy>
  <dcterms:modified xsi:type="dcterms:W3CDTF">2009-04-21T18:12:01Z</dcterms:modified>
  <cp:revision>6</cp:revision>
  <dc:subject/>
  <dc:title>FUN FACTS OF THE MILKY WAY!</dc:title>
</cp:coreProperties>
</file>