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voltage.wav" ContentType="audio/x-wav"/>
  <Override PartName="/ppt/media/image4.png" ContentType="image/png"/>
  <Override PartName="/ppt/media/image8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D735-92FF-4972-8E77-8F3DDACC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5285-C5D0-4141-9D57-C76FC02D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1CAF5-6D95-415F-84FE-E29736B1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BD1AA-0050-46E9-8A34-496A7283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108ED-AE5D-4FA2-888F-EED166BD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10658-9CE8-4A3D-8819-699D9815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77856-07A1-439B-BC5F-6B49CCE1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5CFC2-10DE-4799-8142-43A916E0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EDACE-58EC-42C1-B7BC-1839E103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8EDF0-2B2D-4932-BF6D-EA9A17F5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75750-3429-40D6-8A6E-093A1E87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E1D3E-B416-4DC5-BF7B-458C9EC1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92DB-487A-43B1-8099-740DE498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18B31-A326-4EBB-8CA1-B34FF7A3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30ABD-6A64-4DB1-9A0B-14C9E549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31C67-5A5B-4DEC-9EA4-E27E6F03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D90C4-6E17-44B9-8C1D-ECBEB7E4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74AD2-D87C-4613-B0C7-86E26800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A425E-30DD-4E96-8F7B-49339315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CBD75-5B98-4599-AD25-E7089656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2C400-4465-4BB6-B941-E63E9292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08B8D-A592-4455-AB8F-58B2235C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D349D-47AC-4080-9AB2-2EFD219B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37CF-11D8-4133-BA8F-AEF7DBE8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27ECA-D789-495C-AA23-0F79F6B7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51819-D3E3-478C-801D-17A8C6FB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1C5BD-B7A3-48F7-8C8E-68950EBF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F41E4-FC62-420E-AE18-325E87D8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A8F8B-CD15-413C-850B-10FE9589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C3007-4A12-4660-8EBA-3E89068A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55BAA-DB3A-40CF-A4AF-19089CF4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667A2-8ACA-4967-A60B-99BC69F9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19153-8664-44EE-AEFE-39FDDA7A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C5AB4-3010-47AC-A3DD-0A3E2A0B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483D-F233-4954-835D-AA9CDB31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7077D-446F-4DD2-B5BD-96D25857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E004C-44A0-42E6-9288-5A311D64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6B74A-6DC0-4E30-A969-1D1BF60E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70036-A38A-43D8-8F1D-AE716543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8D703-0C11-4C03-8E4E-5F7F36CB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0901C-B673-4BCC-BE21-6C368942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60FD2-4880-4DA5-9F63-3D8B96A5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68984-2FF7-4D34-BCE7-FE1C59C3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99F8F-BD60-41AB-A54F-1E7FBBC1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36E6F-6C18-4FFC-9012-0F6EBDE4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A042-BB9A-484A-9D6D-C2B6B83B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08929-1407-4658-AC1D-41D695B9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3619E-DB94-4F38-A894-AC6DB80E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4B199-2D7B-410B-9593-4BEF51FD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8C525-4DC9-4E1C-90C4-6E79D701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80070-C61F-4632-8BD5-06659F14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2C659D-48DD-434C-B209-1F56E34E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8B86F6-F979-462F-AF5C-8A8EF48C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675B44-C07B-480E-BF6D-7A404848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1D6D30-A41F-4BBC-94D8-22FEB554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605A22-EBC7-4F0D-8973-443DE3C8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A954-26EE-44A0-8879-8023349E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A0C27B-777C-48E6-A169-D86B5C21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A571F-3E6C-4CB6-AA08-81016761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D6808-7546-462F-814E-7EA3CF8B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1C5AEC-C1AD-4138-8932-65CEB207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4ECA20-6765-4797-B295-9BD1F724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8F657-C947-44FC-855E-0F10684A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420356-96C3-4968-88DF-B8A41AA1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BECA24-0CE1-4806-A595-56828FF4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5BA3D6-7B4E-4F36-B4A2-D7C46001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F3FEF7-5AC9-4E5E-805C-FBAB7FD0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F9CF-22F1-4C57-9DF9-93733441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C3B45A-C0C4-4830-AEA1-3949C934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B3F88D-92B0-4C19-9179-E93B4A51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9B70D1-626B-45BF-BBDE-40147E61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95DFAA-C5C1-4879-835A-F96B61E5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060A1F-E61D-452B-94F5-1FDB0428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1EBCBC-304A-423B-88B8-9699FA14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23FB1F-D7B6-468D-831A-560116C3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039B46-9723-4FC2-B59D-4C95FB8A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13E870-8B91-4821-B0BA-28217D00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545CDB-E564-4F10-B1A5-A7D1D304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D420-2356-4D67-8B5E-9663DDFD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ACA3ED-D19C-4CFB-9903-49EBC51E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D65C23-0169-47EE-803A-CB757DD1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594D49-9648-4E4C-87BF-072247B7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A5AAAB-58BC-49E1-9B29-2F1CDE78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50F7D8-D5E9-4CCC-AAE2-64B2AD11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582A87-396F-4B25-8292-F9EE60E8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8359D5-A185-4B84-8397-B6850D95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21AC2E-BD1C-415F-8CD7-9E39244C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83F05F-ED9B-40B6-82A6-2B0DD3E8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E8B58C-CC41-4BB5-9EAD-EED1BEE7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3B87-5CAD-47EC-B324-740C08FF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73A631-1D47-485D-ABB3-F8D4E1E4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A75758-1066-4F87-B7D2-CA8B9EB7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055F18-9F2B-4A32-BCC5-32F13540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689D0C-BE9D-4B08-BF4A-44620061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D97530-1148-4937-AB8D-DCF18BC4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34A4FA-03EC-4F4D-87C7-50A95B49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876CE9-60DA-4C0F-92EF-FEC264CF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FE0968-9A57-4669-9477-2F579657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60420D-197E-492D-832C-BF7D71BC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D0EAAC-8095-4FC8-84B8-45BB1F42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2BAE-CE77-438C-AFAA-D7E5EC76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96DE9E-703A-40DF-A18A-962590CF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F71351-93A2-4A16-8F58-B0E5F9B1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E8E6FE-D3FC-45B1-958E-E53368A9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9257-2319-4CF9-8AC2-1FB07D64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F868-604F-486D-BC3A-344EF3B7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CCB7-2962-44C2-969F-73C8E129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993A-8E96-4E6D-925D-0CCD8C2B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E75C-6C67-423F-B6BB-88AE0AC0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9F37-6BE6-4420-93A8-2A5E1ECD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8D03F-BA86-405A-B9C6-4FDCD8D5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62656-D080-436C-AD67-D7F4DDD3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AECC3-82B0-41CB-ACB2-CEA489B8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C7D07-9478-4170-A30D-2895DE2F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4962A-04BB-445F-8B96-87F76159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D38E-064B-4746-AF18-520B893D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DD7FD-8F9B-431D-85A1-949B58DC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B42F8-B657-404D-B9B6-D178D3A0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EB660-8D6D-47B8-B63A-0DCD03D4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0A586-68C8-49BF-8625-011B2DFF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157BD-C71F-4A27-BB8F-B3F3B3C1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5B96B-2964-4604-B500-93542CC5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A6C17-B8D9-4E5C-AD77-18709BD6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55673-5E71-43AA-99FA-75F8A8A1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D3D5B-3085-4542-852D-8247E5A7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19A22-F2B6-4963-ADAC-4387895E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FF2-2020-4686-B020-C9AEB34D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8B661-E405-4E46-84F2-CED4CABB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98D49-E5F3-45BB-988D-858D6A1C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570B8-52F1-48A6-8A2D-8E239893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7B76D-4303-49FD-9328-5434A111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D73E0-126E-4EE6-A053-349252C3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C0037-40C8-409A-937D-94523C8A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93978-6807-4138-B548-27C7BA49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E7DCD-960E-4895-A6CF-D6CE3EF5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E9550-0484-482D-85F3-889245FE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F82D7-FDA9-4ED1-B4AC-F5007EBB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748C-46A1-4C0A-B8E7-AFBDBADE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A1961-7F35-4994-8752-3BDE9AD3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7FA19-34D6-42EA-8085-BE0969F2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942BF-FFF0-4BCC-BC4E-9D1569B1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7E53D-79B6-4556-A46F-A6613E4B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931F2-BA96-49F2-85B3-448FA650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3C2B0-C486-4EE2-9442-2001A594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5B2D7-E93C-4A82-BA75-B9C0D337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12A87-D1D0-4EA3-A1B7-C948138F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31445-C4E5-4B43-B6C6-F4B6A3D0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D56BD-15C8-47ED-97C1-2448F0E1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280-7524-4132-BC27-61BA4092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0FBDB-21BE-43BE-9139-65B43581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09BB10-915F-440D-8B2D-2504884D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15E6A5-0E5D-4E5C-A16B-2A7B402E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10F5F2-7879-43F0-ACC6-8787A1C2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C47561-5E25-47C9-AE03-9ED3C559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7EAF47-BD8D-4BA5-9B43-B2892691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06FD4C-5375-4CA4-9E0D-D869A78B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3A587E-E739-4C13-8AAD-3EF53420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E980CA-BF57-4011-BA12-79611BC1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EAD910-4AFF-4D9B-9E9F-DB812D2F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A30E-9E6D-4838-8243-3D802715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9DB103-0D12-4879-8111-B26F302A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EE6F26-F9AC-435D-AE94-0A434422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60A61C-84E2-4444-A479-952C6C88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0CA7E-5CB7-451C-890E-1144639F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B5CCD-BEF0-4061-BAE0-66AA76DA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5F1D2-22C0-4A65-8EF3-95B72DE0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B8900-20AD-43AE-A154-F955C99D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53114-A18E-489E-B16A-761DA4BE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8CE46-0836-4ED7-8459-BC63D988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5736D-5F5B-451C-A295-0C9E00E0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66F-78E0-4518-AEC4-F3F1CD01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4D4D8-A5BE-4D55-BFD1-77F4B320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E6ACC-A631-44A4-882E-7A40BA13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04DDC-E466-4C4D-8E16-81B7F7CD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35A52-D815-4853-ABCE-7F5E7702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27EF0-096B-439D-828F-AB1A3C7D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60B46-D298-413B-9B58-5689FD5E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A35DC-0396-4B81-8C72-4FE9B1B0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102EC-969B-4413-8BB6-40461DDF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AF3BB-AC5E-46CD-994D-9B1CFCA7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254E7-1BFE-4177-A113-CBE182E5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D754-09E6-4781-B81A-CAC28A16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62A76-CC2B-4EB4-99BC-42B98494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60039-FCD7-42B9-8C16-42F35212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C81E2-8F73-4AB8-93A8-AC77CE25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DE820-8EFA-4251-8789-758B647C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5ADFA-DC39-46FA-9EF0-9728135B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37D21-AC32-4DA6-AEC1-C200F89E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E03D5-E9C6-422D-A90A-63EBA0CF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082D9-72DD-42BF-801A-104FE79A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B6383-28E0-4500-91D5-4C6A54B2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066F2-FC64-40DD-917C-EA78747A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8464-B275-4B0E-ADBE-676AFC34F5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dt" idx="28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ftr" idx="29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sldNum" idx="30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AD6E-B887-4FB8-A22B-D09225636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5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5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8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0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CF19-655A-4B2B-AD7F-FDEF93A3B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5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5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7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9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0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BA39-3737-40F2-BA67-EC5F4A472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76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1ABC-5986-4027-B33C-0D9C3FD386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1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DFB3-2B15-4231-86CF-6343FB7E27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7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58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60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4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4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820A-6802-42EE-A29F-B0E55B7E0E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0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0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1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dt" idx="4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ftr" idx="4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sldNum" idx="4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DA9F-0E2B-45E1-960B-65D75B7CB2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341F-C48C-49ED-B03D-6EDE423D4E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0CE7-47BF-4B86-9754-F9F046E67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4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C0CE-AE60-4BF5-A813-C0FC70A84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9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9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9246-FC90-43F7-AB19-5595D83AF7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4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5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5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6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F55B-790C-45D7-B924-F2DC75D6A6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09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13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38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F0FA-2D73-4B54-B012-71DEC4CA656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87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91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16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0E9A-64BB-45B7-B863-D67EAAD3D7B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DF57-768B-491B-ABB0-5B43020B9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469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enevaschools.org/austinbg/class/gray/platypus/habitat.html" TargetMode="External"/><Relationship Id="rId2" Type="http://schemas.openxmlformats.org/officeDocument/2006/relationships/hyperlink" Target="http://discoverer.prod.sirs.com/discoweb/do/article?urn=urn%3AUS%3BAR" TargetMode="External"/><Relationship Id="rId3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 txBox="1"/>
          <p:nvPr/>
        </p:nvSpPr>
        <p:spPr>
          <a:xfrm>
            <a:off x="380880" y="1447920"/>
            <a:ext cx="847728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PLATYPUS</a:t>
            </a:r>
            <a:endParaRPr b="0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 amazing mammal</a:t>
            </a:r>
            <a:endParaRPr b="0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Y: CARSON COOK &amp; CLAIRE BETTLER</a:t>
            </a:r>
            <a:endParaRPr b="0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1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380880" y="228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0000"/>
                </a:solidFill>
                <a:latin typeface="Arial"/>
              </a:rPr>
              <a:t>A PLATYPUS DIVING TO THE BOTTOM OF A STREAM TO LOOK FOR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219320" y="720"/>
            <a:ext cx="65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 Am A Platy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am a little platypus small and sh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live in a world that is not d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my friends and family are just like 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ting little insects but not the b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 Renae Bush (age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4648320" cy="3124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8" name=""/>
          <p:cNvGraphicFramePr/>
          <p:nvPr/>
        </p:nvGraphicFramePr>
        <p:xfrm>
          <a:off x="0" y="2209680"/>
          <a:ext cx="9144000" cy="26020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ccff66"/>
                          </a:solidFill>
                          <a:latin typeface="Arial"/>
                        </a:rPr>
                        <a:t>Why don't Mr. &amp; Mrs. Platypus ever go to Thanksgiving dinner parties?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cc"/>
                    </a:solidFill>
                  </a:tcPr>
                </a:tc>
              </a:tr>
              <a:tr h="13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7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ecause they get very nervous every time they hear someone say" Here comes the Platypi." (pie)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9" name=""/>
          <p:cNvSpPr/>
          <p:nvPr/>
        </p:nvSpPr>
        <p:spPr>
          <a:xfrm flipV="1" rot="10800000">
            <a:off x="3501720" y="4477320"/>
            <a:ext cx="19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523880" y="228600"/>
            <a:ext cx="66294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A PLATYPUS JO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V="1" rot="10800000">
            <a:off x="3581280" y="502812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no   Sanmigu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914400" y="5335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29920" y="-230040"/>
            <a:ext cx="8084520" cy="73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66"/>
                </a:solidFill>
                <a:uFillTx/>
                <a:latin typeface="Arial"/>
              </a:rPr>
              <a:t>The World Book Encyclopedia 1992 edition letter P issue book number 1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cc66"/>
                </a:solidFill>
                <a:uFillTx/>
                <a:latin typeface="Arial"/>
              </a:rPr>
              <a:t>A Platypus, Probably</a:t>
            </a:r>
            <a:r>
              <a:rPr b="1" lang="en-US" sz="1800" spc="-1" strike="noStrike" u="sng">
                <a:solidFill>
                  <a:srgbClr val="ffcc66"/>
                </a:solidFill>
                <a:uFillTx/>
                <a:latin typeface="Arial"/>
              </a:rPr>
              <a:t> By Sneed B. Collard III illustrated by Andrew Plan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http://http://www.genevaschools.org/austinbg/class/gray/platypus/foo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genevaschools.org/austinbg/class/gray/platypus/habita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discoverer.prod.sirs.com/discoweb/do/article?urn=urn%3AUS%3BAR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http://www.nature.ca/notebooks/english/platypu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http://www.platypus.org.uk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Arial"/>
              </a:rPr>
              <a:t>http://soer.justice.tas.go.au/2003/image/559/ilw/p-platypus_m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www.itsnature.org/sea/aquatic-mammals/platypu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rainforest-australia.com/Platypus_histor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1447920" y="228600"/>
            <a:ext cx="70866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CARSON COOK AND CLAIRE BETTLER POWERPOINT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4619520" cy="3076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1860840" cy="104148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/>
          <p:cNvPicPr/>
          <p:nvPr/>
        </p:nvPicPr>
        <p:blipFill>
          <a:blip r:embed="rId2"/>
          <a:stretch/>
        </p:blipFill>
        <p:spPr>
          <a:xfrm>
            <a:off x="533520" y="152280"/>
            <a:ext cx="1860480" cy="104148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/>
          <p:nvPr/>
        </p:nvSpPr>
        <p:spPr>
          <a:xfrm>
            <a:off x="2070000" y="601200"/>
            <a:ext cx="49309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c66"/>
                </a:solidFill>
                <a:uFillTx/>
                <a:latin typeface="Arial"/>
              </a:rPr>
              <a:t>Platypi out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Name three main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Tran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c66"/>
                </a:solidFill>
                <a:uFillTx/>
                <a:latin typeface="Arial"/>
              </a:rPr>
              <a:t>Body # 1: Main: habitat/ where they l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Austr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Str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Bu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c66"/>
                </a:solidFill>
                <a:uFillTx/>
                <a:latin typeface="Arial"/>
              </a:rPr>
              <a:t>Body #2: Main: L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Sp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Webbed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c66"/>
                </a:solidFill>
                <a:uFillTx/>
                <a:latin typeface="Arial"/>
              </a:rPr>
              <a:t>Body #3: Main: 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D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Hunting pr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When they 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c66"/>
                </a:solidFill>
                <a:uFillTx/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Nothing 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Repeat three main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1371600" y="380880"/>
            <a:ext cx="6172200" cy="10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HABIT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VE IN EASTERN 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VE IN BUR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M ALONG ST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676520" y="304920"/>
            <a:ext cx="5790960" cy="9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OO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ES HAVE VENOMOUS SPURS ON EACH HIND 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WEBBED 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 BILL LIKE A D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S MAINLY LIKE A D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533520" y="304920"/>
            <a:ext cx="8610480" cy="88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DIET CONSISTS OF DIFFERENT INSECT LARVAE, SHRIMP, CRAYFISH, WORMS, FLIES, MUSSELS, TROUT EGGS, FROG EGGS, TADPOLES, SMALL FROGS, AND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HUNTS FOOD BY DIVING TO BOTTOM OF LAKES AND STREAMS ROCKING ITS HEAD FROM SIDE TO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EATS AT NIGHT AND EARLY MORNING BECAUSE IT IS NOCTOU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razy Girlz Brunette BTN"/>
              </a:rPr>
              <a:t>Platypi are the only mammals to lay eggs except for the echi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99"/>
                </a:solidFill>
                <a:latin typeface="Crazy Girlz Brunette BTN"/>
              </a:rPr>
              <a:t>The scientific name for the platypus is Ornithorhynchus anatinus</a:t>
            </a:r>
            <a:r>
              <a:rPr b="1" lang="en-US" sz="2800" spc="-1" strike="noStrike">
                <a:solidFill>
                  <a:srgbClr val="ff3399"/>
                </a:solidFill>
                <a:latin typeface="Crazy Girlz Brunette BTN"/>
              </a:rPr>
              <a:t>, which means "bird-like snout"</a:t>
            </a:r>
            <a:br>
              <a:rPr sz="2800"/>
            </a:br>
            <a:r>
              <a:rPr b="1" lang="en-US" sz="2800" spc="-1" strike="noStrike">
                <a:solidFill>
                  <a:srgbClr val="ff3399"/>
                </a:solidFill>
                <a:latin typeface="Crazy Girlz Brunette BT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0000"/>
                </a:solidFill>
                <a:latin typeface="Crazy Girlz Brunette BTN"/>
              </a:rPr>
              <a:t>A baby platypus is called a “platypup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Crazy Girlz Brunette BTN"/>
              </a:rPr>
              <a:t>THE platypus is a nocturnal an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Crazy Girlz Brunette BTN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Crazy Girlz Brunette BTN"/>
              </a:rPr>
              <a:t>THE platypus is sometimes called a “ duck- mol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143000" y="228600"/>
            <a:ext cx="67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66ff33"/>
                </a:solidFill>
                <a:uFillTx/>
                <a:latin typeface="Crazy Girlz Brunette BTN"/>
              </a:rPr>
              <a:t>PLATYPUS FUN FAC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9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6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6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96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" descr="Photo: Duck-Billed Platypus, Ornithorhynchus anatinus."/>
          <p:cNvPicPr/>
          <p:nvPr/>
        </p:nvPicPr>
        <p:blipFill>
          <a:blip r:embed="rId1"/>
          <a:stretch/>
        </p:blipFill>
        <p:spPr>
          <a:xfrm>
            <a:off x="0" y="0"/>
            <a:ext cx="3219480" cy="2952720"/>
          </a:xfrm>
          <a:prstGeom prst="rect">
            <a:avLst/>
          </a:prstGeom>
          <a:ln w="0">
            <a:noFill/>
          </a:ln>
        </p:spPr>
      </p:pic>
      <p:pic>
        <p:nvPicPr>
          <p:cNvPr id="963" name="" descr="Photo: Duck-Billed Platypus, Ornithorhynchus anatinus."/>
          <p:cNvPicPr/>
          <p:nvPr/>
        </p:nvPicPr>
        <p:blipFill>
          <a:blip r:embed="rId2"/>
          <a:stretch/>
        </p:blipFill>
        <p:spPr>
          <a:xfrm>
            <a:off x="3124080" y="3276720"/>
            <a:ext cx="5715000" cy="333360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/>
          <p:nvPr/>
        </p:nvSpPr>
        <p:spPr>
          <a:xfrm>
            <a:off x="228600" y="349740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0" y="3581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 PENCIL DRAWING OF A PLATY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391520" y="685800"/>
            <a:ext cx="175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505320" y="2514600"/>
            <a:ext cx="541008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 PLATYPUS SMIMMING ALONG A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" descr=""/>
          <p:cNvPicPr/>
          <p:nvPr/>
        </p:nvPicPr>
        <p:blipFill>
          <a:blip r:embed="rId3"/>
          <a:stretch/>
        </p:blipFill>
        <p:spPr>
          <a:xfrm>
            <a:off x="4191120" y="152280"/>
            <a:ext cx="2762280" cy="2095560"/>
          </a:xfrm>
          <a:prstGeom prst="rect">
            <a:avLst/>
          </a:prstGeom>
          <a:ln w="0">
            <a:noFill/>
          </a:ln>
        </p:spPr>
      </p:pic>
      <p:sp>
        <p:nvSpPr>
          <p:cNvPr id="969" name=""/>
          <p:cNvSpPr/>
          <p:nvPr/>
        </p:nvSpPr>
        <p:spPr>
          <a:xfrm>
            <a:off x="7162920" y="457200"/>
            <a:ext cx="18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 PICTURE OF AUSTRALIA WHERE THE PLATYPUS L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" descr="Photo: Duck-billed Platypus, Ornithorhynchus anatinus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990720" y="30492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REAL PICTURE OF A PLATYPUS IN THE GR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Image of: Ornithorhynchus anatinus (duck-billed platypus)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990720" y="228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CARTOON DRAWINGY OF A MOTHER PLATYPUS IN 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URROW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9:53:28Z</dcterms:created>
  <dc:creator>gps</dc:creator>
  <dc:description/>
  <dc:language>en-US</dc:language>
  <cp:lastModifiedBy>Bruce Day</cp:lastModifiedBy>
  <dcterms:modified xsi:type="dcterms:W3CDTF">2009-05-12T15:53:37Z</dcterms:modified>
  <cp:revision>9</cp:revision>
  <dc:subject/>
  <dc:title>Slide 1</dc:title>
</cp:coreProperties>
</file>