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voltage.wav" ContentType="audio/x-wav"/>
  <Override PartName="/ppt/media/image4.png" ContentType="image/png"/>
  <Override PartName="/ppt/media/image8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DCA4-A290-4BA0-A67E-7CF6FA72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82A8-1442-4C66-9369-1C899368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47E67-B4AB-4A5C-9AA9-08DEA9AC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BB1A9-5D20-47C4-8369-754D3A63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CB324-E9A2-403B-9B49-B940E5A9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DABE8-881F-4BA4-A120-2CFC8CD3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FC24F-386A-4960-942B-EFABB488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DEC79-5C3C-43D6-A328-4AC78878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BD82F-1A5B-4F56-9316-812D75AF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1D231-47C6-4794-A508-ECBD5BB8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8BE6F-3324-47EF-AB87-B7A98070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EF445-8961-4E2E-A8D5-75DFC9FB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A554-1E66-43AE-8E27-EC329BB6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64B2F-E9C7-4FD7-A64A-377602D1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DA7B5-34C2-463A-BAD5-CD6E78DB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178B6-7F09-4F6C-A1BA-86E0DA9E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4083D-303D-4DA3-9338-B27A916A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DB08D-8A8C-42BA-9979-694C19C8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D4DCE-1037-495F-AEC8-0A26FD43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B6DDA-C2D9-4AB9-8141-97A656B7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EEF48-1695-4A9B-A9A5-7A8046C2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7C624-7880-4DB9-A536-60A7A5DA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5F99F-5E9E-491E-97E0-2F747EF4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03DB-ADAA-412F-BCD8-B81FB5A3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8CA1C-78F9-4CCF-838F-3C1FDA82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7A9D3-C594-4175-8E5B-F12F97F4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4D7B8-515E-4072-8E01-1F8B6D64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BC5A8-0CD9-4C8B-B13F-0CF8183B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27B03-ECBF-496D-A38F-E4FB1857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E80C8-71BD-4541-9C33-F81CE9D0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5529E-E567-444C-BA00-343165EA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F7070-2C0F-4262-A3B5-EB82748B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C8C28-ACD6-4E85-BA8E-ABF3203C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D6549-E02C-41B3-B7FB-A20B7B66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504D-CB48-4620-A76D-26E8160D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86360-4D7A-43DF-BF64-696DE881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94582-6968-4DEB-ADF3-4EEC2480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FE580-1650-428F-8F3E-423B5C25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D77D9-450F-4F91-8564-39D76262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FEBFE-738F-4C8D-B76D-4CCA08B3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207FF-60CE-4441-BBE3-9FF8367F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ED905B-E60E-431C-958B-645C4BF3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41056-97B2-4F99-B848-046C4738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40265-8FA0-4D1F-88C6-16D3B8C9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4ED0A-EC0B-4E73-97C4-786C1379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480A-24E4-47B4-8269-0283B41F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6D1A2-94BC-4D7F-9DD0-F99B757B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B18AC-665F-42DE-922F-5160D692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8C05C-6678-4674-81FB-2DA03BEC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C6724-DEDD-4277-96DE-2C64E4ED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39058-CB0A-4A4F-B059-1B309E07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CB0B97-9B5C-4AC7-AC4B-F476EB21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0D2E75-4017-40D0-B021-71AB1839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950B60-DA22-4539-B6B3-71FF0A09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7F9D96-3BAB-423D-AB55-68DE821E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2C28A1-9CD2-4381-92E7-24CCDE70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6868-F8BC-431F-9B68-E3EA0E90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787A6E-AD31-4824-B1D7-D6E6F1CB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248B58-DAE0-4AF8-BF33-09A909A4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278ADD-4182-4F9F-BCA0-9800EEA2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E37AF9-FE5C-450C-9EFF-A6D91741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14A37B-D513-4ED1-B0C3-ACC38E8C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4084E7-62B3-4F33-A5C1-A00D56D6A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23F568-4855-4FF2-9496-912CB89B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8A33B0-6F39-4541-B1B8-DA1724EE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860949-98DA-4CDC-BF12-000FF9C9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E1D08F-B548-42DE-8EB7-5BA73AF1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56F4-E841-4B6C-B233-7971131A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9CBF28-1F9F-4868-AD29-6CC08724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6E49DF-B5D2-4617-936D-A2C39540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A21390-3B20-4837-815E-63FC29CA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3D6EB3-DBD4-48A4-BE62-64837B18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97E071-C3E3-43D3-97BA-94B29593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6682C5-7398-4C33-8BEC-C4440085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35E0F5-D162-46EA-B61E-86064DF7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34F2D3-6CC1-46DA-9B5D-9425C584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9110B1-791D-4A1F-A394-4CF0B7DB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46C3BF-00C8-4C84-957A-C4E2C598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3589-CB88-4F02-B9FD-6664617D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A751DA-1DD2-4714-901F-27E42B0F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29B904-EA2D-495A-850F-2CBC5794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40E301-9037-4DFE-96F8-939BC328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84915A-ABA2-41CC-BF01-BE9D99E2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1D1500-AA0A-4686-A242-57061220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69767E-A457-4360-B0BB-3C801C79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D071B5-9F77-40CC-8736-DD8BB6A8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451A2B-6AA9-448C-ADFF-81F76E47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CBA17F-4258-4EDF-AB6D-22310452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DA3902-FB20-4633-83CA-857FD86D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A580-5A1C-4C3F-8046-E00C9D65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FE7778-F785-47BA-9A05-7BFEF32F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07102F-577C-4503-A0BE-E5AB62AA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EFF2FE-88CB-422B-96E0-A2898615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460CFA-7F82-4AC6-B72C-EBE594C2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FDE51F-7A21-4B3C-AF6A-C2E47215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F74CE8-547E-4F3F-B236-56C29D1F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FC8558-292F-4E26-8AF2-4BF80115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29D42E-0467-44C5-8B98-72DE69B9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E65F15-0FEB-40E8-8C4A-E0BBA278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024795-BFB3-4915-B521-59FC9B96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6B1F-1A01-43EB-A3D7-CD8416FC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ADC864-EF2A-45A2-8472-CFF7D142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3C89BE-6EF4-4900-8DBF-B4AA0EA8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FBD2A9-B7A2-4CF1-9DF9-2C1F59B6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8CA8-9FA3-4DEA-B8F0-9E33DACB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DC35-9C2F-47F6-AA68-59D014F9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D4AC-8694-43F0-B704-FADFDA5B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606B-4539-48F2-BE0B-767715D3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43D3-99EF-4068-88AB-451C2A0C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1476-4E4F-4D4B-A371-0944381E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5269C-8CB6-4C5C-BFF6-6B116CA8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8539C-54C0-4C59-84EA-A560A2B7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0FAB4-9BED-460E-A658-0CD4F801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39DC8-36A3-4872-8B85-0A1E6CE1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B019D-6A74-44CC-8C6A-9CC3C9F8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BC58-2FE2-4718-A432-51BEFA41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04D39-A014-437F-A50B-AC27F174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E4E2A-F9BE-4A10-ABF4-97C08A76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E9250-9A71-448E-858F-05DAF796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C0DC1-05E3-42BA-BB5A-8B8BC1B7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25558-C499-4F92-B624-498C07D1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22DA7-1610-4A45-87E9-E5523448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02164-29B6-44E9-8666-3D5AD588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167D4-EC19-4746-9BCF-A9A8FFC6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2701E-7F74-462E-A180-614577EA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D4A6D-C6F7-40CF-B2A9-3B331AD1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244A-A98C-48F0-B74C-1EAB0942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40023-8A0C-45D9-98BB-913AF00E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C4AB8-04BC-4B59-B936-17AEECAB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85BE3-4A20-4F10-84F8-01B59D8D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F7FBB-F675-4406-8C05-6C0ACBC5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F36E5-D7B3-40EA-9BBC-EE56E71B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F2976-D683-49D7-835C-F7971D75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BFB54-4083-4DF2-921F-459BFD12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88B31-DDDA-43D6-B88A-F9E8175E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CEAF4-EBAC-4FE7-A85E-D19FDA3E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1C988-12BD-46D2-9687-DBE757AE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DC24-330D-4F64-BA40-67B02AAB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619C3-4440-47E1-ADB5-4DE91493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02617-A163-46D5-80C2-F59F656F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CBC80-DABF-4375-A099-55FFB018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8E430-0600-4B7B-98A6-137DFC56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41345-DC7A-429B-8CF7-1F395953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EFBB4-19D9-4111-A1B1-905E0ADE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76B0D-56E7-42E9-BEBA-6945CFB0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D80F7-7FF3-4144-83BE-89EC2220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DAC1C-586B-43C2-A380-E8441D37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ED659-35C6-4BF2-9DEA-1CA6AEF4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F5E9-AAEE-4A19-A872-B34C89A9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B3BED-7EFA-4B1C-AE3F-6729880D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7F5061-FFAD-4E4A-A7E1-14487E39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6ED8F9-425C-47A7-AD37-D568448E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147C45-9B62-4455-A11C-372AB18F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D9A104-7BEC-43FC-9E61-00B56EA7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C1E853-CB4D-4373-8649-3305BC87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A2D4AC-8434-4052-B5FE-BA138E13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B30260-9E50-49B0-AFFF-65674A3C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260BB8-C581-4794-9665-3CBE840F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2109F4-F391-41B5-A77F-565AB4CA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D0BC-A8D8-43EA-A518-C25CAAF1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4A2EE6-A4E3-4FBB-9DB2-76504578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C71186-AC51-41C2-A2E5-3F7D3644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F83BF2-ADBB-457E-9E0F-70DA1273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F7592-EDC1-4D6F-ABBD-878F054D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915CD-0B4C-4014-B699-9B7E8C28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9E729-9189-4053-A406-5C442618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B7847-5E31-4E40-A349-A4215AAD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90584-BA84-4FE7-977E-9B0D4DCF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C0B8E-42D9-401A-9CF8-0B0FDBFE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031D2-0296-40DC-9AEE-EB175A62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BE51-6BDE-4F50-AE5E-DCAE7AC5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1681F-8D9F-4B7C-80AC-267FE1C0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8B10A-D091-4DB2-A5E5-562D4AFE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E1EEA-E44A-434F-B736-C6BE11ED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4E3CB-2A54-4C6B-8DEF-312260BF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D62EB-CB9E-4098-BF61-6D110B75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66686-E558-46BC-B2DF-E088C5E7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49DB0-1410-46FC-B666-31A3687E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F12A5-F7EB-4E85-8ABD-23C6094C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F31D2-BEFB-4968-B47A-A3F82E55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3B7DB-B8D7-4227-8D96-40B3A774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9E04-AD58-4675-8B54-436D1015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BCDEE-4C5F-4CA3-9AC0-511A236E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739D0-9692-4F1E-B3C2-F0D0ED4A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EBAA3-D0A9-428A-8C84-BA11C51E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08A43-5864-4064-AE38-CF3316AE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721A9-45E4-49DB-ADB1-804F9FC3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AB327-1CAF-44E3-89F6-3FE5552F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46076-B0F3-422E-9965-536479F5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99787-C7B2-43A9-902C-695C79DD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261E6-169A-44BE-843A-B489F709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9418C-1BDA-4734-A5BF-121FFC65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1D18-3CA1-47B9-83C6-2FA6453D25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dt" idx="28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ftr" idx="29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sldNum" idx="30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FA12-E0CF-4E3F-A45E-8A6B1FB05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5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5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8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0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F83B-E0B2-49C6-83D0-62F118034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5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5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7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9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0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7095-6506-4B98-81D0-9F14EF28A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76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1995-BBC1-4204-96DC-91D10D7E8E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1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B6F1-E025-407E-86E4-B55480FA57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7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58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60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4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4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4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D13C-20D0-4BE1-98EC-B28559A48E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0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0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1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dt" idx="4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ftr" idx="4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sldNum" idx="4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6EF8-7BEA-43AE-9373-8E6243A279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03CF-4D0A-4D0A-B9FD-FFB687F9F3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2093-7FE7-4329-A126-E969A07D8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4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248D-7177-4E60-8F5D-4B42F4AE5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9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9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53B7-F17E-4AF6-9263-217F58C592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4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5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5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6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1241-D79E-48FC-A16D-9844054861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09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13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38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196D-C9FF-47DF-BF41-79122D47DD5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87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91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16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9AD9-0EB5-4AC3-A1DA-9153EE67570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6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7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E789-4D4E-4931-B80C-0EC34DFA3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469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enevaschools.org/austinbg/class/gray/platypus/habitat.html" TargetMode="External"/><Relationship Id="rId2" Type="http://schemas.openxmlformats.org/officeDocument/2006/relationships/hyperlink" Target="http://discoverer.prod.sirs.com/discoweb/do/article?urn=urn%3AUS%3BAR" TargetMode="External"/><Relationship Id="rId3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 txBox="1"/>
          <p:nvPr/>
        </p:nvSpPr>
        <p:spPr>
          <a:xfrm>
            <a:off x="380880" y="1447920"/>
            <a:ext cx="847728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PLATYPUS</a:t>
            </a:r>
            <a:endParaRPr b="0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 amazing mammal</a:t>
            </a:r>
            <a:endParaRPr b="0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Y: CARSON COOK &amp; CLAIRE BETTLER</a:t>
            </a:r>
            <a:endParaRPr b="0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1" name="volt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5" name=""/>
          <p:cNvSpPr/>
          <p:nvPr/>
        </p:nvSpPr>
        <p:spPr>
          <a:xfrm>
            <a:off x="380880" y="2286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0000"/>
                </a:solidFill>
                <a:latin typeface="Arial"/>
              </a:rPr>
              <a:t>A PLATYPUS DIVING TO THE BOTTOM OF A STREAM TO LOOK FOR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1219320" y="720"/>
            <a:ext cx="655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 Am A Platy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am a little platypus small and sh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live in a world that is not d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my friends and family are just like 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ting little insects but not the b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y Renae Bush (age 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4648320" cy="3124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8" name=""/>
          <p:cNvGraphicFramePr/>
          <p:nvPr/>
        </p:nvGraphicFramePr>
        <p:xfrm>
          <a:off x="0" y="2209680"/>
          <a:ext cx="9144000" cy="26020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ccff66"/>
                          </a:solidFill>
                          <a:latin typeface="Arial"/>
                        </a:rPr>
                        <a:t>Why don't Mr. &amp; Mrs. Platypus ever go to Thanksgiving dinner parties?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cc"/>
                    </a:solidFill>
                  </a:tcPr>
                </a:tc>
              </a:tr>
              <a:tr h="13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7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ecause they get very nervous every time they hear someone say" Here comes the Platypi." (pie)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9" name=""/>
          <p:cNvSpPr/>
          <p:nvPr/>
        </p:nvSpPr>
        <p:spPr>
          <a:xfrm flipV="1" rot="10800000">
            <a:off x="3501720" y="4477320"/>
            <a:ext cx="19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523880" y="228600"/>
            <a:ext cx="66294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A PLATYPUS JO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V="1" rot="10800000">
            <a:off x="3581280" y="502812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no   Sanmigu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914400" y="5335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29920" y="-230040"/>
            <a:ext cx="8084520" cy="73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66"/>
                </a:solidFill>
                <a:uFillTx/>
                <a:latin typeface="Arial"/>
              </a:rPr>
              <a:t>The World Book Encyclopedia 1992 edition letter P issue book number 1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cc66"/>
                </a:solidFill>
                <a:uFillTx/>
                <a:latin typeface="Arial"/>
              </a:rPr>
              <a:t>A Platypus, Probably</a:t>
            </a:r>
            <a:r>
              <a:rPr b="1" lang="en-US" sz="1800" spc="-1" strike="noStrike" u="sng">
                <a:solidFill>
                  <a:srgbClr val="ffcc66"/>
                </a:solidFill>
                <a:uFillTx/>
                <a:latin typeface="Arial"/>
              </a:rPr>
              <a:t> By Sneed B. Collard III illustrated by Andrew Plan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http://http://www.genevaschools.org/austinbg/class/gray/platypus/foo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genevaschools.org/austinbg/class/gray/platypus/habita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discoverer.prod.sirs.com/discoweb/do/article?urn=urn%3AUS%3BAR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http://www.nature.ca/notebooks/english/platypu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http://www.platypus.org.uk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Arial"/>
              </a:rPr>
              <a:t>http://soer.justice.tas.go.au/2003/image/559/ilw/p-platypus_m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www.itsnature.org/sea/aquatic-mammals/platypu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rainforest-australia.com/Platypus_history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1447920" y="228600"/>
            <a:ext cx="708660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CARSON COOK AND CLAIRE BETTLER POWERPOINT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4619520" cy="3076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" descr=""/>
          <p:cNvPicPr/>
          <p:nvPr/>
        </p:nvPicPr>
        <p:blipFill>
          <a:blip r:embed="rId1"/>
          <a:stretch/>
        </p:blipFill>
        <p:spPr>
          <a:xfrm>
            <a:off x="6781680" y="152280"/>
            <a:ext cx="1860840" cy="104148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/>
          <p:cNvPicPr/>
          <p:nvPr/>
        </p:nvPicPr>
        <p:blipFill>
          <a:blip r:embed="rId2"/>
          <a:stretch/>
        </p:blipFill>
        <p:spPr>
          <a:xfrm>
            <a:off x="533520" y="152280"/>
            <a:ext cx="1860480" cy="1041480"/>
          </a:xfrm>
          <a:prstGeom prst="rect">
            <a:avLst/>
          </a:prstGeom>
          <a:ln w="0">
            <a:noFill/>
          </a:ln>
        </p:spPr>
      </p:pic>
      <p:sp>
        <p:nvSpPr>
          <p:cNvPr id="956" name=""/>
          <p:cNvSpPr/>
          <p:nvPr/>
        </p:nvSpPr>
        <p:spPr>
          <a:xfrm>
            <a:off x="2070000" y="601200"/>
            <a:ext cx="49309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c66"/>
                </a:solidFill>
                <a:uFillTx/>
                <a:latin typeface="Arial"/>
              </a:rPr>
              <a:t>Platypi out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Name three main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Tran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c66"/>
                </a:solidFill>
                <a:uFillTx/>
                <a:latin typeface="Arial"/>
              </a:rPr>
              <a:t>Body # 1: Main: habitat/ where they l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Austr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Str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Bu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c66"/>
                </a:solidFill>
                <a:uFillTx/>
                <a:latin typeface="Arial"/>
              </a:rPr>
              <a:t>Body #2: Main: L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Sp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Webbed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c66"/>
                </a:solidFill>
                <a:uFillTx/>
                <a:latin typeface="Arial"/>
              </a:rPr>
              <a:t>Body #3: Main: F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D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Hunting pr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When they 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c66"/>
                </a:solidFill>
                <a:uFillTx/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Nothing 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Repeat three main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1371600" y="380880"/>
            <a:ext cx="6172200" cy="10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HABIT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VE IN EASTERN 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VE IN BUR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M ALONG STR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1676520" y="304920"/>
            <a:ext cx="5790960" cy="9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OOK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ES HAVE VENOMOUS SPURS ON EACH HIND 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WEBBED F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 BILL LIKE A DU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S MAINLY LIKE A DU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533520" y="304920"/>
            <a:ext cx="8610480" cy="88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DIET CONSISTS OF DIFFERENT INSECT LARVAE, SHRIMP, CRAYFISH, WORMS, FLIES, MUSSELS, TROUT EGGS, FROG EGGS, TADPOLES, SMALL FROGS, AND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HUNTS FOOD BY DIVING TO BOTTOM OF LAKES AND STREAMS ROCKING ITS HEAD FROM SIDE TO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EATS AT NIGHT AND EARLY MORNING BECAUSE IT IS NOCTOU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razy Girlz Brunette BTN"/>
              </a:rPr>
              <a:t>Platypi are the only mammals to lay eggs except for the echi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99"/>
                </a:solidFill>
                <a:latin typeface="Crazy Girlz Brunette BTN"/>
              </a:rPr>
              <a:t>The scientific name for the platypus is Ornithorhynchus anatinus</a:t>
            </a:r>
            <a:r>
              <a:rPr b="1" lang="en-US" sz="2800" spc="-1" strike="noStrike">
                <a:solidFill>
                  <a:srgbClr val="ff3399"/>
                </a:solidFill>
                <a:latin typeface="Crazy Girlz Brunette BTN"/>
              </a:rPr>
              <a:t>, which means "bird-like snout"</a:t>
            </a:r>
            <a:br>
              <a:rPr sz="2800"/>
            </a:br>
            <a:r>
              <a:rPr b="1" lang="en-US" sz="2800" spc="-1" strike="noStrike">
                <a:solidFill>
                  <a:srgbClr val="ff3399"/>
                </a:solidFill>
                <a:latin typeface="Crazy Girlz Brunette BT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0000"/>
                </a:solidFill>
                <a:latin typeface="Crazy Girlz Brunette BTN"/>
              </a:rPr>
              <a:t>A baby platypus is called a “platypup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Crazy Girlz Brunette BTN"/>
              </a:rPr>
              <a:t>THE platypus is a nocturnal ani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Crazy Girlz Brunette BTN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Crazy Girlz Brunette BTN"/>
              </a:rPr>
              <a:t>THE platypus is sometimes called a “ duck- mol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143000" y="228600"/>
            <a:ext cx="670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66ff33"/>
                </a:solidFill>
                <a:uFillTx/>
                <a:latin typeface="Crazy Girlz Brunette BTN"/>
              </a:rPr>
              <a:t>PLATYPUS FUN FAC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9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9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6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6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96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" descr="Photo: Duck-Billed Platypus, Ornithorhynchus anatinus."/>
          <p:cNvPicPr/>
          <p:nvPr/>
        </p:nvPicPr>
        <p:blipFill>
          <a:blip r:embed="rId1"/>
          <a:stretch/>
        </p:blipFill>
        <p:spPr>
          <a:xfrm>
            <a:off x="0" y="0"/>
            <a:ext cx="3219480" cy="2952720"/>
          </a:xfrm>
          <a:prstGeom prst="rect">
            <a:avLst/>
          </a:prstGeom>
          <a:ln w="0">
            <a:noFill/>
          </a:ln>
        </p:spPr>
      </p:pic>
      <p:pic>
        <p:nvPicPr>
          <p:cNvPr id="963" name="" descr="Photo: Duck-Billed Platypus, Ornithorhynchus anatinus."/>
          <p:cNvPicPr/>
          <p:nvPr/>
        </p:nvPicPr>
        <p:blipFill>
          <a:blip r:embed="rId2"/>
          <a:stretch/>
        </p:blipFill>
        <p:spPr>
          <a:xfrm>
            <a:off x="3124080" y="3276720"/>
            <a:ext cx="5715000" cy="3333600"/>
          </a:xfrm>
          <a:prstGeom prst="rect">
            <a:avLst/>
          </a:prstGeom>
          <a:ln w="0">
            <a:noFill/>
          </a:ln>
        </p:spPr>
      </p:pic>
      <p:sp>
        <p:nvSpPr>
          <p:cNvPr id="964" name=""/>
          <p:cNvSpPr/>
          <p:nvPr/>
        </p:nvSpPr>
        <p:spPr>
          <a:xfrm>
            <a:off x="228600" y="3497400"/>
            <a:ext cx="259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0" y="3581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 PENCIL DRAWING OF A PLATY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7391520" y="685800"/>
            <a:ext cx="1752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505320" y="2514600"/>
            <a:ext cx="541008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 PLATYPUS SMIMMING ALONG A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8" name="" descr=""/>
          <p:cNvPicPr/>
          <p:nvPr/>
        </p:nvPicPr>
        <p:blipFill>
          <a:blip r:embed="rId3"/>
          <a:stretch/>
        </p:blipFill>
        <p:spPr>
          <a:xfrm>
            <a:off x="4191120" y="152280"/>
            <a:ext cx="2762280" cy="2095560"/>
          </a:xfrm>
          <a:prstGeom prst="rect">
            <a:avLst/>
          </a:prstGeom>
          <a:ln w="0">
            <a:noFill/>
          </a:ln>
        </p:spPr>
      </p:pic>
      <p:sp>
        <p:nvSpPr>
          <p:cNvPr id="969" name=""/>
          <p:cNvSpPr/>
          <p:nvPr/>
        </p:nvSpPr>
        <p:spPr>
          <a:xfrm>
            <a:off x="7162920" y="457200"/>
            <a:ext cx="18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 PICTURE OF AUSTRALIA WHERE THE PLATYPUS L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" descr="Photo: Duck-billed Platypus, Ornithorhynchus anatinus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990720" y="30492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REAL PICTURE OF A PLATYPUS IN THE GR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" descr="Image of: Ornithorhynchus anatinus (duck-billed platypus)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990720" y="228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CARTOON DRAWINGY OF A MOTHER PLATYPUS IN 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URROW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9:53:28Z</dcterms:created>
  <dc:creator>gps</dc:creator>
  <dc:description/>
  <dc:language>en-US</dc:language>
  <cp:lastModifiedBy>Bruce Day</cp:lastModifiedBy>
  <dcterms:modified xsi:type="dcterms:W3CDTF">2009-05-12T15:53:37Z</dcterms:modified>
  <cp:revision>9</cp:revision>
  <dc:subject/>
  <dc:title>Slide 1</dc:title>
</cp:coreProperties>
</file>