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voltage.wav" ContentType="audio/x-wav"/>
  <Override PartName="/ppt/media/image4.png" ContentType="image/png"/>
  <Override PartName="/ppt/media/image8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7AE-8D5C-4375-BC03-418CABEF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74A-27BC-46FD-BD75-064F817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5DC97-5224-48B8-8F64-C2E2E478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7796E-D445-47B1-BC7D-42E55879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DED6D-EDCF-43B0-AA12-EFA75959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8D496-34D5-4964-AFBF-51969CB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519E0-DFA4-4DEA-ACF3-F0A39B8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05DE-7442-4873-9DB9-95E26713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C3172-CA4D-4D08-9FC1-AF1C86E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90ACE-AC95-44E2-BF40-2167A21C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F4E55-3EC8-42A7-AC0E-160F2C8C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5095E-E4A6-48C1-8ABA-EC4624F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50E-7264-4897-90C8-F403BC82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5850A-A27A-44A5-BB0F-B8A1CBB9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E02F8-5017-4478-9DC1-2B49B02E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6A13F-3AEB-4D0B-B85E-1B3D8A4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F373-186D-4469-894E-F87021DE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CA369-6CF5-4D0E-AB00-AE3116CF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1989-84C0-455A-AE7D-EB1562C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7117F-B75A-4AE5-AC44-E1077FB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9EBCD-390E-4CF3-9763-0113C4E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5B6F8-04DF-4BF8-B0CF-D2CA120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40A36-BE25-45A4-BEB0-9B1139AF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EBE-D324-4C5C-8554-427004E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3D32-8088-4FF1-9F8B-FE39C7FC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96ED4-2D0C-4FCA-97F5-5CFB8A09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AA45-A6AF-424E-9CB6-5B6597B1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90465-42C2-4305-A0B9-98CA503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71465-F170-4E4A-9590-DB829731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EFD58-75F0-4BEE-B7C8-1ABC3EE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B840C-B077-4943-A5DF-55D78D34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965C-7E67-432A-9C19-B238864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42A9-146F-4C9B-BA4D-95F4F94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58B7-A98D-47C5-B46A-3A2EF12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D5C-CEB7-443E-9026-E853794E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6CF0-8C3B-423D-AB98-26B97EF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62D27-9F6D-4927-AB6C-24C54D93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176E1-CD95-44E0-BF4E-83660098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A7CF3-EDC6-4170-86ED-83FE159D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9462E-AB54-4E45-A64D-FFE5CE97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03915-A947-4910-BF4A-3512DAA3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19992-33F6-4BE9-A7F7-571A78C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C80C5-9566-4639-AFAA-BFDC24E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99509-A96D-46AC-A3DB-54EEADD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0C7E5-33C3-44DE-BF27-9698F84C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37E-09CB-416E-8CFB-353B308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27E63-C59B-4FDC-AA6B-7DC66851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DF003-CDB9-425A-BF86-71866F8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D466C-94A7-4CAE-8B2C-23A4905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F2C01-3D62-4008-A7AF-793443DF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53635-0ADD-46A2-9393-D4C16CBE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3A16B-6895-4166-A814-E26D2904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082DF-997A-4132-9B2A-5B7A17C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6A2EF-C2E8-402E-A4B0-DAA05986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9D69F-B1AC-427A-9844-E62F195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7B4FF-1243-483E-BDD6-B0D5569D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BE3B-06C1-4143-8B7D-FA8BB6E3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48EFE-9AE0-49F2-97AC-2485C6D6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F49EC-D96F-4D26-B762-BD8C56D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39998-CE0B-46F9-B952-AE2218D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FF7BB-1686-4050-97FC-A98802D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88758-28F9-49EE-88B5-4EB98D5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79BC4-156B-42DD-BE58-CC31C80C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A81BB-D8C2-4A51-9DF5-99B71CE8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F845D-D340-439F-833D-E485E316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4473B-CDE7-49F8-8B9A-FA17495C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C44BD-C049-46BE-B084-2CCC7239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225-D383-4F1B-8CBC-0169E1A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81EB7-69E9-473E-8B9A-7B52874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4CBF4-7985-4D75-83C7-BE5EDED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C4822-A328-4581-95B8-2679CBF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366AE-A406-4F98-98BD-C7BC6F3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993F9-B934-410E-B4D4-77C1397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747B1-64AE-405B-AF49-97D737D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460C6-F416-4A73-AB72-AB7EE4EB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21DBC-64A4-4754-BF08-282204D6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18CC6-D268-4666-97F0-B17C0C77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1AEDB-39C9-4E6B-BD13-DDCA066A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5B2-D64A-4DDB-AE89-BD75E7B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2FF58-F568-4D6B-A7D6-1D8FBF0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18CB9-9BCE-4BAD-BDC8-68CAC36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E29AA-DD2A-450A-8BB8-9B78477E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75C3A-8F5E-408A-B881-4B34FA2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87E49-AA2E-4BF8-AEB4-5BF1DC74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5235D-D2CC-4271-9929-2029AD1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115DA-06F5-4D04-98DE-710740C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9664B-F6E7-41DA-9B48-2534B95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DE476-7D30-4CE2-805D-E4AE855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B12C2-AED1-4CD0-8DB4-03618326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6617-787E-4870-B0F3-51FAF6F3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D3C0E-2482-4B69-9C92-17FA539E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DD9E4-E02E-4744-96EE-3227A401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7479C-A7DA-42A5-AB27-E91EE17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FBE0E-18B0-4408-B954-616B87F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3A3C6-6EC0-4FB1-B742-FE694D0B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E0297-ED27-465F-90CC-9C70D662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4BF29-0B36-4413-B293-54CF70A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AEB07-8EC0-495A-BC84-9A88902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E6576-BDAA-4E27-B59A-55C6C6C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506A9-E9A4-4C08-82F3-695B131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7C30-04C8-4536-A926-B9D34C45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3FE47-3943-4D9C-BBDF-4E985258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14DFD-48B0-4EE0-9F0A-6CFBB3A0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1D91E-B6B4-4E87-A705-1718DE6E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ECC-5FC1-4678-9811-C906578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5F3D-8005-4A0A-A652-C9BD309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4C6-AB1F-431C-A17E-18750EB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4A05-976C-4B15-A39A-F3797F26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1A0E-C017-4CF3-A6DB-CEED5E0D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585-1C0D-4E8B-8942-64458226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591B-F148-476C-829F-4C2BA2A2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5382-A7BB-4B03-9BC0-9182D7C4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E52F-3179-4B1C-BC30-2A62363D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2BA0-EDE9-4D5E-BB98-7CBB4C3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AB7D-72F4-4E01-B5A4-F8354986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B5E-D146-423D-81C0-54AF42EA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C14E-A352-4164-93D2-A3455752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194A-A3D2-42EB-930E-2BC5FB1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201D-080A-4C57-B499-4239993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56F3-4C4B-40B2-BA47-50F8FE7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BE55-1437-4C94-BBEA-CF741CE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8B7D-232A-4486-AAAF-BF82407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6446-C82C-4CEF-B8B0-C155B73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5BC5-0B6A-45F1-914C-C48BEE65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31A6-DC83-411E-8AC3-40DC480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E802-ACD6-4766-960B-9FA5D70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BED-81D5-42A6-BCBE-DB58B906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80B6-9C67-4A50-89E4-A9DAB766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094E-7C5A-43F5-931F-767FD8B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4107-B638-4A4E-A2C8-86A9215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67C70-D27D-42F1-9F15-D5E3D26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2088-9A44-4889-829D-3A17DC7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703B-07F1-4EE5-82B5-039B6DF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81E2-B50A-4905-A304-4898139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6819-C718-48DA-8484-6C31DF0B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FF09-D833-40F7-972B-0BE0B553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1CB0-93C6-4E5D-B501-34670C54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E02-5225-4852-B73A-8149899A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589D-8F3F-48EF-A355-0C27C47A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ACF1-68C1-437F-A886-3445456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7D35-AC7E-495D-BDED-DC84F5F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1316-D826-42AD-A51A-FCFD782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CFEB-4860-4C08-9B9E-6A3F7E1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9F659-50C5-4882-A152-52D7B3E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EE96-2421-4CAC-8A73-88C52A69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3CD1-671E-48FD-9020-86AF635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C118-2ECC-4150-8130-95E36971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5046-E5A9-4DDB-B02B-8C6876F9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FD7-1C84-4B4F-9FE0-1439CD62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20FA-0176-4041-BBB2-EC6C3CD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826DA-55B3-4537-AEE9-BD6C285D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E7FF1-4FDB-493E-9277-5AA4836B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BC740-7080-4372-A407-D2EE74A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30A08-6CD7-4C5D-8C25-8BAF300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3F82A-58BC-4481-ABDA-E5FA02D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55FE8-E23C-42BD-9492-5B14437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60317-2380-46B8-976F-4C559B1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7E2A3-C7FF-4441-84E7-2E09184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F4B88-DABB-41BD-B1DD-73EE231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286-95E6-4D77-B6CA-27B2257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EEE43-F17C-4862-8B1B-210FE71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F145D-D745-4516-A504-83C08594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48336-06F6-43EA-9078-79BAE29A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9089F-42E7-4E6A-8943-63E3AF27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006BB-1879-4E06-ABD9-C1746F87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5B96-5D42-4E88-A22F-4488E8AB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4AFC-117A-4F73-A62D-2C0FC77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F1933-76E6-4BCC-99C4-43C4A826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5A5E-F13C-402E-8C49-7F35C67B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255B-04C8-4EF9-A38A-9B2C139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EA4-50C7-46CB-B7E7-3468481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9753-2666-46C0-90BA-4FF6B83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21A1-34CA-494E-B66B-22C5E998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320D-F3D7-45D4-8BCA-A48D842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F7D3-36F1-4559-9EE9-8707EA7A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21E4-CA41-4304-AC6F-7A284543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0027E-A4B2-4004-BE91-70CAF72A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5CDAD-3164-4AFA-B39A-D67401F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5313-59B3-40AB-8BDD-68963BA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83294-3C6D-46EB-A12F-B2F44BB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2CA1-AAB3-4329-8C35-7767CFC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221-82AA-4261-A856-BA3B6B9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BD22-91A9-466E-8398-AB010182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705E8-4B50-411D-B61A-337811E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B9B7-4F43-4095-A86A-49D13E2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E570-7117-4D56-8D4A-8C640B6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77B8-C9E7-4A28-A1C1-C6E93A2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7373-1E3C-427D-8664-024D5CCD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9EF9-E752-4E4B-BCA0-5F7D3EC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FFE0-24B2-4878-8075-AD8C311C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7FA3F-2550-44FC-AB9D-16A48C0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C41D8-446F-453B-848F-CCAA3D25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9049-FB7B-42FF-A76F-8D75029F5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B1A-DFAA-4011-8725-0BF1DEEF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5808-B195-4418-B82D-21BD0CA5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275-E266-405B-8426-86ADAE838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6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B9F-6D21-478B-B44F-FAA0A5922E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1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CF9A-7882-4C6F-9635-D00A9A0AAB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F66-CA4D-46BF-9036-ADA902548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0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0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1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0451-AC87-4BB7-B961-E93931AED9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4737-6454-40E4-87AC-F564A987C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D5E-DCCC-40C9-B426-745E1E8A5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5B0-8B2B-4BF9-8DF6-1F9D3440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0AE-E56B-4E70-B6A4-2FFC1031C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59E-8B8A-451E-90B4-7E63A1332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0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3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4BE-F0F0-4D5A-AFD3-9A0CD7DCD9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8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745-5341-4F2C-BD29-0CE66515F1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65D8-1868-4377-9DE6-6954501C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69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enevaschools.org/austinbg/class/gray/platypus/habitat.html" TargetMode="External"/><Relationship Id="rId2" Type="http://schemas.openxmlformats.org/officeDocument/2006/relationships/hyperlink" Target="http://discoverer.prod.sirs.com/discoweb/do/article?urn=urn%3AUS%3BAR" TargetMode="External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0880" y="1447920"/>
            <a:ext cx="84772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LATYPUS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 amazing mammal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: CARSON COOK &amp; CLAIRE BETTLER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A PLATYPUS DIVING TO THE BOTTOM OF A STREAM TO LOOK FOR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219320" y="7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 Am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m a little platypus small and s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ive in a world that is not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y friends and family are just like 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ting little insects but not the b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Renae Bush (age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0" y="2209680"/>
          <a:ext cx="9144000" cy="2602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Why don't Mr. &amp; Mrs. Platypus ever go to Thanksgiving dinner parties?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cc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ecause they get very nervous every time they hear someone say" Here comes the Platypi." (pie)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V="1" rot="10800000">
            <a:off x="3501720" y="4477320"/>
            <a:ext cx="19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228600"/>
            <a:ext cx="66294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A PLATYPUS JO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3581280" y="502812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o   Sanmigu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29920" y="-230040"/>
            <a:ext cx="8084520" cy="73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The World Book Encyclopedia 1992 edition letter P issue book number 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A Platypus, Probably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 By Sneed B. Collard III illustrated by Andrew Pla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http://www.genevaschools.org/austinbg/class/gray/platypus/foo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enevaschools.org/austinbg/class/gray/platypus/habita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discoverer.prod.sirs.com/discoweb/do/article?urn=urn%3AUS%3BAR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nature.ca/notebooks/english/platyp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platypus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http://soer.justice.tas.go.au/2003/image/559/ilw/p-platypus_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tsnature.org/sea/aquatic-mammals/platypu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rainforest-australia.com/Platypus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447920" y="228600"/>
            <a:ext cx="70866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ARSON COOK AND CLAIRE BETTLE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6195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60840" cy="104148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1860480" cy="10414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070000" y="601200"/>
            <a:ext cx="4930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Platypi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ame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 1: Main: habitat/ 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u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2: Main: L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p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ebbed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3: Main: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Hunting p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hen they 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othing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Repeat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71600" y="380880"/>
            <a:ext cx="6172200" cy="10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HABIT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EASTERN 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BU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M ALONG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676520" y="304920"/>
            <a:ext cx="5790960" cy="9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HAVE VENOMOUS SPURS ON EACH HIND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WEBBED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BILL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MAINLY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533520" y="304920"/>
            <a:ext cx="8610480" cy="88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DIET CONSISTS OF DIFFERENT INSECT LARVAE, SHRIMP, CRAYFISH, WORMS, FLIES, MUSSELS, TROUT EGGS, FROG EGGS, TADPOLES, SMALL FROGS,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HUNTS FOOD BY DIVING TO BOTTOM OF LAKES AND STREAMS ROCKING ITS HEAD FROM SIDE T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EATS AT NIGHT AND EARLY MORNING BECAUSE IT IS NOCT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razy Girlz Brunette BTN"/>
              </a:rPr>
              <a:t>Platypi are the only mammals to lay eggs except for the echi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Crazy Girlz Brunette BTN"/>
              </a:rPr>
              <a:t>The scientific name for the platypus is Ornithorhynchus anatinus</a:t>
            </a: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, which means "bird-like snout"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Crazy Girlz Brunette BTN"/>
              </a:rPr>
              <a:t>A baby platypus is called a “platypup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THE platypus is a nocturnal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razy Girlz Brunette BTN"/>
              </a:rPr>
              <a:t>THE platypus is sometimes called a “ duck- mo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43000" y="2286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ff33"/>
                </a:solidFill>
                <a:uFillTx/>
                <a:latin typeface="Crazy Girlz Brunette BTN"/>
              </a:rPr>
              <a:t>PLATYPUS FUN 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Photo: Duck-Billed Platypus, Ornithorhynchus anatinus."/>
          <p:cNvPicPr/>
          <p:nvPr/>
        </p:nvPicPr>
        <p:blipFill>
          <a:blip r:embed="rId2"/>
          <a:stretch/>
        </p:blipFill>
        <p:spPr>
          <a:xfrm>
            <a:off x="3124080" y="327672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228600" y="34974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58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ENCIL DRAWING OF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858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514600"/>
            <a:ext cx="5410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LATYPUS SMIMMING ALONG A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2762280" cy="20955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62920" y="457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ICTURE OF AUSTRALIA WHERE THE PLATYPUS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990720" y="3049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PICTURE OF A PLATYPUS IN THE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Image of: Ornithorhynchus anatinus (duck-billed platyp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9907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CARTOON DRAWINGY OF A MOTHER PLATYPUS IN 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URR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53:28Z</dcterms:created>
  <dc:creator>gps</dc:creator>
  <dc:description/>
  <dc:language>en-US</dc:language>
  <cp:lastModifiedBy>Bruce Day</cp:lastModifiedBy>
  <dcterms:modified xsi:type="dcterms:W3CDTF">2009-05-12T15:53:37Z</dcterms:modified>
  <cp:revision>9</cp:revision>
  <dc:subject/>
  <dc:title>Slide 1</dc:title>
</cp:coreProperties>
</file>