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7C8-7BD1-4042-848A-1E08EF71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3D0-CCC6-4A6A-B699-80C922DE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F36-2BB8-4783-8D24-1B887CDB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B08-9109-43F6-97F2-EDA49D29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F4CB-B1E3-4450-BFAA-376A7F41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DD53-87E5-4387-8D2F-C68C1A2A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0EDC-CE28-49F8-BF2F-A2CD040F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80EF-137D-49F0-BE05-8DB3236F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F6D2-D39F-4AA1-8451-CE7E69C6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9758-CCB9-42C3-9E0E-D2669196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68B8-502B-45F8-B19C-C52EA938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A67-723E-422E-A8D4-64CB994E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227-7531-40BA-ABFA-701B0485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9A68-5507-4A6F-A897-3D27EA3C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10D0-E518-47CD-B589-7B58C6A9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6F60-05FC-480B-AB7C-651A03EE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B1A5-22C2-4893-B025-7E4512D8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77A-ED9B-4F21-A56F-B547B0C8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DC4-F31B-41D2-AC95-EC362991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263-9EE3-4489-91F9-89A73DBC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600-9D85-408D-8657-FC45BE91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EF5-B9F1-4745-80E0-CB30FFC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33D-3328-42BA-AA9C-CAFABB9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121-AF95-4CF2-A798-932B85F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C97-EBD9-44CB-9003-EF28EF8292BD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E0B6-9B94-448D-9DA2-14D50AD0C43E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Aubryn Patton and Emma Cha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523880"/>
            <a:ext cx="65530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Paralympics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962520"/>
            <a:ext cx="8229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962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r Ludwig Guttmann invented the Paralympics for physically injured patients. He believed that it was good therap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98960" y="6095880"/>
            <a:ext cx="384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acta-ortho.gr/v55t1_6/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4520" y="6172200"/>
            <a:ext cx="73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btparalympicworldcup.com/images/news/GB_WCBB_Team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724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are many games in the Paralympics. For example, wheelchair basketball, goal ball, and ju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053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am Great Britain playing wheelchair basket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047760" cy="3238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7440" y="6248520"/>
            <a:ext cx="58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sdsc.org.sg/images/website/Beijing_Medals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3581280" cy="3276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7160" y="5791320"/>
            <a:ext cx="88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goldprice.org/buying-gold/uploaded_images/beijing-olympic-gold-medal-784833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the left, is a picture of the Paralympics’ medals. To the right, is a picture of the Olympics’ med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662940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73240" y="6248520"/>
            <a:ext cx="43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newham.com/files/p.748.img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56272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cture of Paralympic Champ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New IPC Logo"/>
          <p:cNvPicPr/>
          <p:nvPr/>
        </p:nvPicPr>
        <p:blipFill>
          <a:blip r:embed="rId1"/>
          <a:stretch/>
        </p:blipFill>
        <p:spPr>
          <a:xfrm>
            <a:off x="1523880" y="8380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Old IPC Logo"/>
          <p:cNvPicPr/>
          <p:nvPr/>
        </p:nvPicPr>
        <p:blipFill>
          <a:blip r:embed="rId2"/>
          <a:stretch/>
        </p:blipFill>
        <p:spPr>
          <a:xfrm>
            <a:off x="5562720" y="914400"/>
            <a:ext cx="2133360" cy="2666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3880" y="4038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eft symbol is the current symbol for the Paralympics. The one to the right is the previous symbol for the Paralymp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71520" y="6248520"/>
            <a:ext cx="105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aralympic.org/release/Main_Sections_Menu/IPC/About_the_IPC/IPC_Symbol_and_Mott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133720" y="914400"/>
            <a:ext cx="533376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rit in Motio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5053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current motto for the Paralymp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2760" y="6172200"/>
            <a:ext cx="638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upload.wikimedia.org/wikipedia/commons/b/bd/Wheelchair_racing_Parapan_American_2007-cropped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99072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6:57:42Z</dcterms:created>
  <dc:creator>aes</dc:creator>
  <dc:description/>
  <dc:language>en-US</dc:language>
  <cp:lastModifiedBy>aes</cp:lastModifiedBy>
  <dcterms:modified xsi:type="dcterms:W3CDTF">2009-04-21T17:56:33Z</dcterms:modified>
  <cp:revision>2</cp:revision>
  <dc:subject/>
  <dc:title>Slide 1</dc:title>
</cp:coreProperties>
</file>