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C88-61BC-489C-A5CC-03270615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E07-8DA5-46BE-8DF3-1AEEBA37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355-9DB1-4A37-A470-9F354A81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272-B019-451E-B80F-AFC9DF57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721D-4F2E-428E-9BE5-96BD639B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D1C1-B446-4871-B3DA-706231E7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CF5A-1E69-4199-A010-201A7C3E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DEBF-8080-4992-9D5A-86D57950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C841-CCF9-4D39-9163-905D3A2C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E7ED-EA32-406D-8958-05E0F45D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D424-D79F-4054-9FF7-879B1CD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5F3-1388-4233-A46F-736C2CDF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C27B-8618-4C08-A685-5763653F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7A34-CB7A-4279-8AD1-1144C815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F54D-0C8E-4EE1-9334-1CC818B0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AF45-A7EA-4806-A3D2-7F135584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5FF1-ADBD-4219-ACBC-CD266AE2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D53-961E-4FCA-92B1-FB9A546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DCD-D8CF-4D5A-AB4E-3A631F24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036-9EB3-4235-8C4C-9793EC3D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8D5-7109-4859-8E6D-411B0025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26F-9E03-4D08-9E56-031C7D7A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E72-79B6-458E-9526-1B73DB69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638-BB94-463D-96AE-879E7C0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A5DF-6C7D-40CA-9041-457E63CDBAB3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ACB7-2BA2-462B-ABC1-7FBE1B58A964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Aubryn Patton and Emma Cha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523880"/>
            <a:ext cx="65530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Paralympics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962520"/>
            <a:ext cx="8229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9625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r Ludwig Guttmann invented the Paralympics for physically injured patients. He believed that it was good therap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98960" y="6095880"/>
            <a:ext cx="384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acta-ortho.gr/v55t1_6/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4520" y="6172200"/>
            <a:ext cx="73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btparalympicworldcup.com/images/news/GB_WCBB_Team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7242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are many games in the Paralympics. For example, wheelchair basketball, goal ball, and ju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053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am Great Britain playing wheelchair basketb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047760" cy="3238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7440" y="6248520"/>
            <a:ext cx="585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sdsc.org.sg/images/website/Beijing_Medals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3581280" cy="3276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7160" y="5791320"/>
            <a:ext cx="88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goldprice.org/buying-gold/uploaded_images/beijing-olympic-gold-medal-784833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the left, is a picture of the Paralympics’ medals. To the right, is a picture of the Olympics’ med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662940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73240" y="6248520"/>
            <a:ext cx="43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newham.com/files/p.748.img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56272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cture of Paralympic Champ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New IPC Logo"/>
          <p:cNvPicPr/>
          <p:nvPr/>
        </p:nvPicPr>
        <p:blipFill>
          <a:blip r:embed="rId1"/>
          <a:stretch/>
        </p:blipFill>
        <p:spPr>
          <a:xfrm>
            <a:off x="1523880" y="8380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Old IPC Logo"/>
          <p:cNvPicPr/>
          <p:nvPr/>
        </p:nvPicPr>
        <p:blipFill>
          <a:blip r:embed="rId2"/>
          <a:stretch/>
        </p:blipFill>
        <p:spPr>
          <a:xfrm>
            <a:off x="5562720" y="914400"/>
            <a:ext cx="2133360" cy="2666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3880" y="4038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eft symbol is the current symbol for the Paralympics. The one to the right is the previous symbol for the Paralymp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71520" y="6248520"/>
            <a:ext cx="105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paralympic.org/release/Main_Sections_Menu/IPC/About_the_IPC/IPC_Symbol_and_Mott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133720" y="914400"/>
            <a:ext cx="533376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rit in Motion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50532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current motto for the Paralymp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32760" y="6172200"/>
            <a:ext cx="638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upload.wikimedia.org/wikipedia/commons/b/bd/Wheelchair_racing_Parapan_American_2007-cropped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990720"/>
            <a:ext cx="72388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End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6:57:42Z</dcterms:created>
  <dc:creator>aes</dc:creator>
  <dc:description/>
  <dc:language>en-US</dc:language>
  <cp:lastModifiedBy>aes</cp:lastModifiedBy>
  <dcterms:modified xsi:type="dcterms:W3CDTF">2009-04-21T17:56:33Z</dcterms:modified>
  <cp:revision>2</cp:revision>
  <dc:subject/>
  <dc:title>Slide 1</dc:title>
</cp:coreProperties>
</file>