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BA0-8715-4EAC-B2D0-5FF53716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D30-5777-414A-A16C-7C0D39BB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C22-5353-4FF4-8034-84FA8520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498-8617-4088-9493-93542E1B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A5F9-B52B-4AA6-8567-026C02C8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5FD8-23F5-45B3-95AF-FE65DAC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278E-F8B3-4DB4-8817-93EF2A5E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D94E-4F7C-4BBC-914E-509E09D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2ED0-1273-48D9-914F-A1FD34C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87F-550A-4ED7-9147-04A2B7F0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94BF-6C37-4330-BBAD-4E45F01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A51-A8F1-492C-8E2E-6009E08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978-5E1E-44E4-A8AD-4AA316A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43FD-0652-4795-AC2D-22D8175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EDC-55FE-4CC4-B40A-F90705F5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EEFE-541B-4EFF-9C33-015CC2BA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CBA-12B7-45F8-B237-05C4B4C8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F5C-E214-47F3-A518-FB22EC7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8C1-E12B-49A4-9621-04BCCA8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2F1-9993-495B-ABEA-B0A192C5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0F4-6325-463A-BAA2-A402503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6AF-ADC1-4FD8-B732-FCA53FE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21B-E7A6-4415-8892-478E6AA2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5E0-4AF5-4F2D-A354-7393375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5E1-6340-45DC-ABF4-257315E7604A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C60-DAF9-4CB1-B220-DA69209AE376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ubryn Patton and Emma Cha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523880"/>
            <a:ext cx="65530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Paralympics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962520"/>
            <a:ext cx="822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962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r Ludwig Guttmann invented the Paralympics for physically injured patients. He believed that it was good therap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98960" y="609588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acta-ortho.gr/v55t1_6/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4520" y="6172200"/>
            <a:ext cx="73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btparalympicworldcup.com/images/news/GB_WCBB_Team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are many games in the Paralympics. For example, wheelchair basketball, goal ball, and ju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053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am Great Britain playing wheelchair basket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047760" cy="3238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7440" y="624852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sdsc.org.sg/images/website/Beijing_Medals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7160" y="5791320"/>
            <a:ext cx="88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goldprice.org/buying-gold/uploaded_images/beijing-olympic-gold-medal-784833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he left, is a picture of the Paralympics’ medals. To the right, is a picture of the Olympics’ med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73240" y="624852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newham.com/files/p.748.img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5627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ture of Paralympic Champ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New IPC Logo"/>
          <p:cNvPicPr/>
          <p:nvPr/>
        </p:nvPicPr>
        <p:blipFill>
          <a:blip r:embed="rId1"/>
          <a:stretch/>
        </p:blipFill>
        <p:spPr>
          <a:xfrm>
            <a:off x="1523880" y="8380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Old IPC Logo"/>
          <p:cNvPicPr/>
          <p:nvPr/>
        </p:nvPicPr>
        <p:blipFill>
          <a:blip r:embed="rId2"/>
          <a:stretch/>
        </p:blipFill>
        <p:spPr>
          <a:xfrm>
            <a:off x="5562720" y="914400"/>
            <a:ext cx="2133360" cy="2666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eft symbol is the current symbol for the Paralympics. The one to the right is the previous symbol for the Paralymp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71520" y="6248520"/>
            <a:ext cx="10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aralympic.org/release/Main_Sections_Menu/IPC/About_the_IPC/IPC_Symbol_and_Mott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33720" y="914400"/>
            <a:ext cx="533376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rit in Motio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053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current motto for the Paralymp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2760" y="6172200"/>
            <a:ext cx="638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upload.wikimedia.org/wikipedia/commons/b/bd/Wheelchair_racing_Parapan_American_2007-cropped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9907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57:42Z</dcterms:created>
  <dc:creator>aes</dc:creator>
  <dc:description/>
  <dc:language>en-US</dc:language>
  <cp:lastModifiedBy>aes</cp:lastModifiedBy>
  <dcterms:modified xsi:type="dcterms:W3CDTF">2009-04-21T17:56:33Z</dcterms:modified>
  <cp:revision>2</cp:revision>
  <dc:subject/>
  <dc:title>Slide 1</dc:title>
</cp:coreProperties>
</file>