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739C-67FD-4500-A7DB-C666262A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nda Song is a role model to me because she realy stuck to her dr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 a picture of her while filming the movie,”Wendy Wu ,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4DA-E2FD-4EFB-941E-0E4D4B11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E8E-B63E-47DC-86BA-B6D8A43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B04-B80E-4557-9188-56F68C13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12D-85A8-43FC-BB75-C84902FA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CB1-7A49-4A90-BFB0-4AF84C52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16B-885D-48B2-AAFE-7B90DBB4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B9-938D-4D20-82EC-9EB14F5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0E1-F91C-499D-88F9-5471EFF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096-0C8B-47B9-8852-8A53F331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56D-0587-49B1-8A0B-2C0B2BA4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B74-934F-4A12-AE71-1BC4713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197-30FC-4E93-9C96-E91DB73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10D-B242-45F1-8AC4-68D998F4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3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BSZACHCODY04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Song,_Brenda/gallery/PRN-036275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Zach-Cody-tv-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5720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143000"/>
            <a:ext cx="1828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 S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was born on March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988 in Carmicheal,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Zach-Cody-tv-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37960"/>
            <a:ext cx="4238640" cy="638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6094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a role model to me because she really stuck to her dr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Zach-Cody-tv-2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247680"/>
            <a:ext cx="4238640" cy="636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914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while filming the Suite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Zach-Cody-tv-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90720"/>
            <a:ext cx="4238640" cy="51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renda Song with the cast of ,”The Suite Life of Zack and Cody.”, and a guest star, Jesse McCartn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Wendy-Wu-d01.jpg"/>
          <p:cNvPicPr/>
          <p:nvPr/>
        </p:nvPicPr>
        <p:blipFill>
          <a:blip r:embed="rId1"/>
          <a:stretch/>
        </p:blipFill>
        <p:spPr>
          <a:xfrm>
            <a:off x="2452680" y="233280"/>
            <a:ext cx="4238640" cy="639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066680"/>
            <a:ext cx="17524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 a picture of her while filming the movie," Wendy Wu ,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Wendy-Wu-d03.jpg"/>
          <p:cNvPicPr/>
          <p:nvPr/>
        </p:nvPicPr>
        <p:blipFill>
          <a:blip r:embed="rId1"/>
          <a:stretch/>
        </p:blipFill>
        <p:spPr>
          <a:xfrm>
            <a:off x="4905360" y="152280"/>
            <a:ext cx="4238640" cy="564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295280"/>
            <a:ext cx="1752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in the movie” Wendy Wu Homecoming Warrio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is in a family of five her little brothers ,Timmy &amp; Nathan, her mother and father, and of course Brenda her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Brenda Song-DGG-016344.jpg"/>
          <p:cNvPicPr/>
          <p:nvPr/>
        </p:nvPicPr>
        <p:blipFill>
          <a:blip r:embed="rId1"/>
          <a:stretch/>
        </p:blipFill>
        <p:spPr>
          <a:xfrm>
            <a:off x="5457960" y="0"/>
            <a:ext cx="3686040" cy="6134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1143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renda Song  beside  The Oscar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da Song had a wacky life, first of all her mother was adopted by a Hmong family ,then when her family immigrated to America she had to change her last name to Song ,and when she was 6 she moved to L.A.  with her mother and that probably helped her acting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25:11Z</dcterms:created>
  <dc:creator>aes</dc:creator>
  <dc:description/>
  <dc:language>en-US</dc:language>
  <cp:lastModifiedBy>aes</cp:lastModifiedBy>
  <dcterms:modified xsi:type="dcterms:W3CDTF">2009-05-01T17:50:14Z</dcterms:modified>
  <cp:revision>5</cp:revision>
  <dc:subject/>
  <dc:title>Slide 1</dc:title>
</cp:coreProperties>
</file>