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F012-0228-49A1-9E1E-A2DD965EA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renda  S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nda Song is a role model to me because she realy stuck to her dre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renda Song while filming the Suite L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renda Song with the cast of ,”The Suite Life of Zack and Cody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 a picture of her while filming the movie,”Wendy Wu ,Homecoming Warrio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renda Song in the movie” Wendy Wu Homecoming Warrio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renda Song  beside  The Oscar a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9D27-FC60-4A83-A27E-82F7E84E7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B1AF-E089-4E4C-B818-62D9A0CB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059D-34DB-4791-9AB7-04ED16F93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EA58-6384-408F-BB61-A337B4309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8995-E016-40B2-902B-A1E65328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B6DF-07C5-4017-BABA-E879315B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0BA6-00F8-4D7D-812E-29324C45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CA01-519E-43B3-BF3D-26D34A0E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AA29-98D2-47C7-9CA9-603791CC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2221-986D-45B8-AC29-35C3C54F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853C-327A-4B10-9262-F1FB9897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8B54-31CD-45D5-9DA1-F8EFE403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018D-54AE-4A6C-BB79-143E34C90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arpulse.com/Actresses/Song,_Brenda/gallery/BSZACHCODY02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arpulse.com/Actresses/Song,_Brenda/gallery/BSZACHCODY03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arpulse.com/Actresses/Song,_Brenda/gallery/BSZACHCODY04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arpulse.com/Actresses/Song,_Brenda/gallery/PRN-036275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Zach-Cody-tv-1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457200"/>
            <a:ext cx="4238640" cy="5648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1143000"/>
            <a:ext cx="1828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Brenda  So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21337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nda song was born on March 2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1988 in Carmicheal,Califor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Zach-Cody-tv-1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52680" y="237960"/>
            <a:ext cx="4238640" cy="6382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0880" y="6094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nda Song is a role model to me because she really stuck to her dre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Zach-Cody-tv-2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52680" y="247680"/>
            <a:ext cx="4238640" cy="6362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0880" y="9144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Brenda Song while filming the Suite Li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Zach-Cody-tv-1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7400" y="990720"/>
            <a:ext cx="4238640" cy="512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1066680"/>
            <a:ext cx="1828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renda Song with the cast of ,”The Suite Life of Zack and Cody.”, and a guest star, Jesse McCartne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Wendy-Wu-d01.jpg"/>
          <p:cNvPicPr/>
          <p:nvPr/>
        </p:nvPicPr>
        <p:blipFill>
          <a:blip r:embed="rId1"/>
          <a:stretch/>
        </p:blipFill>
        <p:spPr>
          <a:xfrm>
            <a:off x="2452680" y="233280"/>
            <a:ext cx="4238640" cy="6391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7200" y="1066680"/>
            <a:ext cx="175248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 a picture of her while filming the movie," Wendy Wu ,Homecoming Warrior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Wendy-Wu-d03.jpg"/>
          <p:cNvPicPr/>
          <p:nvPr/>
        </p:nvPicPr>
        <p:blipFill>
          <a:blip r:embed="rId1"/>
          <a:stretch/>
        </p:blipFill>
        <p:spPr>
          <a:xfrm>
            <a:off x="4905360" y="152280"/>
            <a:ext cx="4238640" cy="5648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3520" y="1295280"/>
            <a:ext cx="17524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Brenda Song in the movie” Wendy Wu Homecoming Warrior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34290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nda song is in a family of five her little brothers ,Timmy &amp; Nathan, her mother and father, and of course Brenda her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Brenda Song-DGG-016344.jpg"/>
          <p:cNvPicPr/>
          <p:nvPr/>
        </p:nvPicPr>
        <p:blipFill>
          <a:blip r:embed="rId1"/>
          <a:stretch/>
        </p:blipFill>
        <p:spPr>
          <a:xfrm>
            <a:off x="5457960" y="0"/>
            <a:ext cx="3686040" cy="6134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33520" y="114300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Brenda Song  beside  The Oscar Aw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4382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nda Song had a wacky life, first of all her mother was adopted by a Hmong family ,then when her family immigrated to America she had to change her last name to Song ,and when she was 6 she moved to L.A.  with her mother and that probably helped her acting care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17:25:11Z</dcterms:created>
  <dc:creator>aes</dc:creator>
  <dc:description/>
  <dc:language>en-US</dc:language>
  <cp:lastModifiedBy>aes</cp:lastModifiedBy>
  <dcterms:modified xsi:type="dcterms:W3CDTF">2009-05-01T17:50:14Z</dcterms:modified>
  <cp:revision>5</cp:revision>
  <dc:subject/>
  <dc:title>Slide 1</dc:title>
</cp:coreProperties>
</file>