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C83-EC36-4709-8BE3-96E49DE6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nda Song is a role model to me because she realy stuck to her dr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 a picture of her while filming the movie,”Wendy Wu ,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4E8-0AE4-48C5-89FB-D56ECD8C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1F5-26F9-443A-9BAE-2B4B7D9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D8F-A99B-476A-A48C-359B7C85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EFD-B9C3-4E97-AAAC-A28178D1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918-A206-4E66-AF55-F864346C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3AC-75AF-45DE-AC1B-3768C5B2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A9C-3C32-48BC-93EF-6270A89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F1D-F930-4BA4-9F86-318074B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0D7-7B0C-41FC-96DA-EC6FAEC7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FF1-EA20-4773-83B9-5A42A25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F82-C016-4A65-A16E-C8404E23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CDB-7F92-4B12-AC71-C71EAC1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A2F-7C43-43FC-A94D-068C7A71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3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4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PRN-036275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Zach-Cody-tv-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5720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143000"/>
            <a:ext cx="1828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was born on March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988 in Carmicheal,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Zach-Cody-tv-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37960"/>
            <a:ext cx="4238640" cy="638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6094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a role model to me because she really stuck to her dr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Zach-Cody-tv-2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47680"/>
            <a:ext cx="4238640" cy="636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914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Zach-Cody-tv-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90720"/>
            <a:ext cx="4238640" cy="51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, and a guest star, Jesse McCartn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Wendy-Wu-d01.jpg"/>
          <p:cNvPicPr/>
          <p:nvPr/>
        </p:nvPicPr>
        <p:blipFill>
          <a:blip r:embed="rId1"/>
          <a:stretch/>
        </p:blipFill>
        <p:spPr>
          <a:xfrm>
            <a:off x="2452680" y="233280"/>
            <a:ext cx="4238640" cy="639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066680"/>
            <a:ext cx="17524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 a picture of her while filming the movie," Wendy Wu ,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Wendy-Wu-d03.jpg"/>
          <p:cNvPicPr/>
          <p:nvPr/>
        </p:nvPicPr>
        <p:blipFill>
          <a:blip r:embed="rId1"/>
          <a:stretch/>
        </p:blipFill>
        <p:spPr>
          <a:xfrm>
            <a:off x="4905360" y="15228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295280"/>
            <a:ext cx="1752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in a family of five her little brothers ,Timmy &amp; Nathan, her mother and father, and of course Brenda her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Brenda Song-DGG-016344.jpg"/>
          <p:cNvPicPr/>
          <p:nvPr/>
        </p:nvPicPr>
        <p:blipFill>
          <a:blip r:embed="rId1"/>
          <a:stretch/>
        </p:blipFill>
        <p:spPr>
          <a:xfrm>
            <a:off x="5457960" y="0"/>
            <a:ext cx="3686040" cy="6134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1143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had a wacky life, first of all her mother was adopted by a Hmong family ,then when her family immigrated to America she had to change her last name to Song ,and when she was 6 she moved to L.A.  with her mother and that probably helped her acting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25:11Z</dcterms:created>
  <dc:creator>aes</dc:creator>
  <dc:description/>
  <dc:language>en-US</dc:language>
  <cp:lastModifiedBy>aes</cp:lastModifiedBy>
  <dcterms:modified xsi:type="dcterms:W3CDTF">2009-05-01T17:50:14Z</dcterms:modified>
  <cp:revision>5</cp:revision>
  <dc:subject/>
  <dc:title>Slide 1</dc:title>
</cp:coreProperties>
</file>