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0CCE8-C930-4514-BA59-E8D9071FA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DB0F9-675B-4B7F-B924-F1E28D2EE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82361-3C1B-4AB6-8D5A-6FAA8D886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D05CB-99B7-4078-BD73-A0D85396C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CD5307-018C-4167-B3D3-7B0A216F5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E3B110-974E-4B2B-974F-AA823961B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B918F3-DAB7-4C3C-9588-6F99D6790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79831D-8471-48CD-80E7-2C30C3559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DDCCEE-01A6-43BA-ACE0-22683CE61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A1ED89-1C39-4D4B-8DEA-1AC39E3DB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D13573-FD21-4519-BCAE-9598963ED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7545A-AE7A-4C7F-916A-FCE7AC918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AE5E69-AA89-4A68-BF19-0B9104DA1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B04EE6-1FBE-4B27-8DF8-D5D610F78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3F1FDC-EE72-44F8-A8DD-4F59BA3B0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857641-8C3C-4819-95DD-0BD7D65FF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7CB66C-5D1A-43B0-96F0-599A48F86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F1D983-C59F-42FE-B08D-8E0B46E5C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06E39B-5E6A-43FD-BE73-B3C259DA6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5235F4-29EA-4FD3-9803-75023D108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48F581-F8E0-4665-8D9A-0242BEA4D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8FEC6D-8F36-442C-BCB3-775ECBCAF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AE90F-609B-46DC-AF9D-86D2CD753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6BEE28-0E7C-433A-94ED-10B9384AF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F433B0-9DBA-43FB-A1E7-D0D74BA96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EB47CD-DE95-4CA2-B487-830AC217C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DA2183-7101-4C66-920F-3C3E8D682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AE9EF4-3BD2-4BC9-8B17-A791483BC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39372E-DEF8-4DEE-8685-50607B012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1E115F-AC23-4D78-9A19-F8ECBD6B5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B5BB29-5B89-4F38-9D8A-F5431CDEB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A75B78-05CC-4268-892D-AEDB96866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A467FA-C7C8-4FE9-975F-D5E891818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C84DE-69C2-434D-AECB-76091413B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003909-3E10-47A1-8D3B-BF2FAB27A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C7AAAD-95CF-45F9-874A-FB7AAF1C1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ABFF8E-364B-4E41-8BF1-5E648B50F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BB6A5C-F2F3-490F-B448-45610F470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98DF0E-3618-4163-B905-864E5C122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1CD80D-3300-4949-8377-255B7D2FC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765FC5-D227-458D-96ED-36CE06623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ACDD75-3A7C-405D-964E-8D50F28E8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36A4ED-6737-4F8C-9DB0-BF36F7240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CB8E37-D2FB-4FAF-9D00-745EF5E9A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34F0A-CC6B-41E9-9908-8C9E70BC4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AAE796-2F07-4AE3-BB63-E18186FF7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B528BB-F543-4A0A-9FE6-993E09F57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7A4D61-A4AF-4D94-9FE3-EC3AD86CD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5AABFF-22D2-4E14-9F70-4F6D3FFC9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4BB03D-897B-42E9-9F6F-5FCE76615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63D557-52A5-4F17-9CFE-22511C16B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CABA63-C7CD-4826-A626-BBAB01910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B52882-B425-4616-8793-A422E8288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98F330-0682-4E04-BD64-A2FC0C080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37922E-2D53-45F2-94C5-1184CB891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1C187-A5CD-4A27-9897-EB110B2E8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4C0F45-A084-4B86-94C2-82BFD85A8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EA8166A-4F5E-4BE7-A19C-3918D8C48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8ECDCCB-967F-47A4-85F7-449C34BAF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89D826C-D98D-458A-9C1A-664976A48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11ABE69-9BEE-4BF1-BBD0-4E96BA218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5E721CD-B9EB-459A-B7B8-40765FEBA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C9C0E81-5D14-4B33-9B91-573293564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7367F16-F94E-46F4-9EB4-3A1510CE8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F8443E7-25FF-4C5F-8F43-611523F85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DA64D56-7B68-4D33-82E1-143185308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4EDCC-2413-401B-9432-E3A7F8E4E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D8D492F-872D-4A28-84C0-747B6B900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3E47D5B-91A4-4E3E-9C14-98F6EE024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BBC06E7-0D64-4351-96E6-83A6E1BED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CC030-5AE5-4587-B06B-34C27E020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4B057-ABAF-4D1F-AAF2-89A15BE0B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9F3A4-7F82-4E9F-9450-29551F0E6D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BEBA8-F772-4EA8-8005-B226684B16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84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85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88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0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91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3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94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95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6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7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98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3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114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6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117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9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120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2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123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5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126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129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1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132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4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135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7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138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0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141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3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6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147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9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150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2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153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5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156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8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159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63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164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6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167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9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2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173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4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5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176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8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179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0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1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182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3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4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85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6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7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88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0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91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2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3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94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5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96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B48CB-E04F-4FB9-9449-6B648CE8E527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9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260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261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63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8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4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85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6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7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88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9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0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91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2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3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94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5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6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97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8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9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300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1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2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303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4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5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306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7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8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309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0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1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312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3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4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315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6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7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318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9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0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321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2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3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324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5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6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327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8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9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330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1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32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3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34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335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6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37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338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9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40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341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2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43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344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5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46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347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8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49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350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1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52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353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4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55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356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7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58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359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0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1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362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3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4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365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6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367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368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369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0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1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2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3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4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5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76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77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378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156B0-D2AA-4653-8096-5B176306E7AD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33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35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6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437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38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439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44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45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446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A73C3-5A59-4D48-9B29-F30343E8A49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3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94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6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7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8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99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00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05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06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07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 type="sldNum" idx="1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01511-397A-4E33-A2AE-61BE3945AC3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 type="ftr" idx="1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3" name="" descr="external image Godzilla_collage.jpg"/>
          <p:cNvPicPr/>
          <p:nvPr/>
        </p:nvPicPr>
        <p:blipFill>
          <a:blip r:embed="rId2"/>
          <a:stretch/>
        </p:blipFill>
        <p:spPr>
          <a:xfrm>
            <a:off x="6324480" y="4343400"/>
            <a:ext cx="2286000" cy="1295280"/>
          </a:xfrm>
          <a:prstGeom prst="rect">
            <a:avLst/>
          </a:prstGeom>
          <a:ln w="0">
            <a:noFill/>
          </a:ln>
        </p:spPr>
      </p:pic>
      <p:pic>
        <p:nvPicPr>
          <p:cNvPr id="554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52280" cy="76320"/>
          </a:xfrm>
          <a:prstGeom prst="rect">
            <a:avLst/>
          </a:prstGeom>
          <a:ln w="0">
            <a:noFill/>
          </a:ln>
        </p:spPr>
      </p:pic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27432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y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ailey, Maddie, and Jess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6" name=""/>
          <p:cNvSpPr txBox="1"/>
          <p:nvPr/>
        </p:nvSpPr>
        <p:spPr>
          <a:xfrm rot="20845200">
            <a:off x="-180720" y="582480"/>
            <a:ext cx="9017280" cy="411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GODZILLA!!!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The Rampaging Monster!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5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"/>
          <p:cNvSpPr/>
          <p:nvPr/>
        </p:nvSpPr>
        <p:spPr>
          <a:xfrm>
            <a:off x="0" y="3129480"/>
            <a:ext cx="9144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fe1f08"/>
                </a:solidFill>
                <a:latin typeface="Arial"/>
                <a:ea typeface="Arial"/>
              </a:rPr>
              <a:t>Godzilla is a Japanese monster created by Mr.Tomoyuki Tanaka in 1974. Mr.Tanaka enjoyed horror films as a child, which led him to creating Godzilla. He was inspired by </a:t>
            </a:r>
            <a:r>
              <a:rPr b="1" i="1" lang="en-US" sz="2000" spc="-1" strike="noStrike">
                <a:solidFill>
                  <a:srgbClr val="fe1f08"/>
                </a:solidFill>
                <a:latin typeface="Arial"/>
                <a:ea typeface="Arial"/>
              </a:rPr>
              <a:t>King</a:t>
            </a:r>
            <a:r>
              <a:rPr b="0" lang="en-US" sz="2000" spc="-1" strike="noStrike">
                <a:solidFill>
                  <a:srgbClr val="fe1f08"/>
                </a:solidFill>
                <a:latin typeface="Arial"/>
                <a:ea typeface="Arial"/>
              </a:rPr>
              <a:t> </a:t>
            </a:r>
            <a:r>
              <a:rPr b="1" i="1" lang="en-US" sz="2000" spc="-1" strike="noStrike">
                <a:solidFill>
                  <a:srgbClr val="fe1f08"/>
                </a:solidFill>
                <a:latin typeface="Arial"/>
                <a:ea typeface="Arial"/>
              </a:rPr>
              <a:t>Kong</a:t>
            </a:r>
            <a:r>
              <a:rPr b="0" lang="en-US" sz="2000" spc="-1" strike="noStrike">
                <a:solidFill>
                  <a:srgbClr val="fe1f08"/>
                </a:solidFill>
                <a:latin typeface="Arial"/>
                <a:ea typeface="Arial"/>
              </a:rPr>
              <a:t> films. Godzilla is Mr.Tanaka's way of expressing feelings, so to speak. Ever since his first appearance, people have loved the havoc caused by Godzill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"/>
          <p:cNvSpPr txBox="1"/>
          <p:nvPr/>
        </p:nvSpPr>
        <p:spPr>
          <a:xfrm>
            <a:off x="228600" y="457200"/>
            <a:ext cx="662940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The Begining....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comb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ff00"/>
                </a:solidFill>
                <a:uFillTx/>
                <a:latin typeface="Arial"/>
              </a:rPr>
              <a:t>GODZILLA’S NAM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99"/>
                </a:solidFill>
                <a:latin typeface="Arial"/>
              </a:rPr>
              <a:t>Godzilla got his name from the Japanese word </a:t>
            </a:r>
            <a:r>
              <a:rPr b="0" i="1" lang="en-US" sz="3200" spc="-1" strike="noStrike">
                <a:solidFill>
                  <a:srgbClr val="cc0099"/>
                </a:solidFill>
                <a:latin typeface="Arial"/>
              </a:rPr>
              <a:t>Gojir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99"/>
                </a:solidFill>
                <a:latin typeface="Arial"/>
              </a:rPr>
              <a:t>He is also known as “</a:t>
            </a:r>
            <a:r>
              <a:rPr b="0" i="1" lang="en-US" sz="3200" spc="-1" strike="noStrike">
                <a:solidFill>
                  <a:srgbClr val="cc0099"/>
                </a:solidFill>
                <a:latin typeface="Arial"/>
              </a:rPr>
              <a:t>The King of the Monsters</a:t>
            </a:r>
            <a:r>
              <a:rPr b="0" lang="en-US" sz="3200" spc="-1" strike="noStrike">
                <a:solidFill>
                  <a:srgbClr val="cc0099"/>
                </a:solidFill>
                <a:latin typeface="Arial"/>
              </a:rPr>
              <a:t>”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cc0099"/>
                </a:solidFill>
                <a:latin typeface="Arial"/>
              </a:rPr>
              <a:t>Gojira </a:t>
            </a:r>
            <a:r>
              <a:rPr b="0" lang="en-US" sz="3200" spc="-1" strike="noStrike">
                <a:solidFill>
                  <a:srgbClr val="cc0099"/>
                </a:solidFill>
                <a:latin typeface="Arial"/>
              </a:rPr>
              <a:t>means “</a:t>
            </a:r>
            <a:r>
              <a:rPr b="0" i="1" lang="en-US" sz="3200" spc="-1" strike="noStrike">
                <a:solidFill>
                  <a:srgbClr val="cc0099"/>
                </a:solidFill>
                <a:latin typeface="Arial"/>
              </a:rPr>
              <a:t>gorilla and whale</a:t>
            </a:r>
            <a:r>
              <a:rPr b="0" lang="en-US" sz="3200" spc="-1" strike="noStrike">
                <a:solidFill>
                  <a:srgbClr val="cc0099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5562720" y="4572000"/>
            <a:ext cx="3047760" cy="1371600"/>
          </a:xfrm>
          <a:prstGeom prst="cloudCallout">
            <a:avLst>
              <a:gd name="adj1" fmla="val 34689"/>
              <a:gd name="adj2" fmla="val 15046"/>
            </a:avLst>
          </a:prstGeom>
          <a:solidFill>
            <a:srgbClr val="ffffff"/>
          </a:solidFill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 flipH="1">
            <a:off x="1828800" y="5715000"/>
            <a:ext cx="4572000" cy="914400"/>
          </a:xfrm>
          <a:prstGeom prst="lightningBolt">
            <a:avLst/>
          </a:prstGeom>
          <a:solidFill>
            <a:srgbClr val="cdc409"/>
          </a:solidFill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5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5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 u="sng">
                <a:solidFill>
                  <a:srgbClr val="80c283"/>
                </a:solidFill>
                <a:uFillTx/>
                <a:latin typeface="Castellar"/>
              </a:rPr>
              <a:t>Tomoyuki Tanaka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7694640" cy="36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3e3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e538f"/>
                </a:solidFill>
                <a:latin typeface="Book Antiqua"/>
              </a:rPr>
              <a:t>Died at age 8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3e3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e538f"/>
                </a:solidFill>
                <a:latin typeface="Book Antiqua"/>
              </a:rPr>
              <a:t>Creator of </a:t>
            </a:r>
            <a:r>
              <a:rPr b="0" i="1" lang="en-US" sz="2800" spc="-1" strike="noStrike">
                <a:solidFill>
                  <a:srgbClr val="7e538f"/>
                </a:solidFill>
                <a:latin typeface="Book Antiqua"/>
              </a:rPr>
              <a:t>Godzill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3e3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e538f"/>
                </a:solidFill>
                <a:latin typeface="Book Antiqua"/>
              </a:rPr>
              <a:t>Inspired by</a:t>
            </a:r>
            <a:r>
              <a:rPr b="0" i="1" lang="en-US" sz="2800" spc="-1" strike="noStrike">
                <a:solidFill>
                  <a:srgbClr val="7e538f"/>
                </a:solidFill>
                <a:latin typeface="Book Antiqua"/>
              </a:rPr>
              <a:t> King Ko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3e3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e538f"/>
                </a:solidFill>
                <a:latin typeface="Book Antiqua"/>
              </a:rPr>
              <a:t>Born on April 26, 191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3e3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e538f"/>
                </a:solidFill>
                <a:latin typeface="Book Antiqua"/>
              </a:rPr>
              <a:t>Died on April 2, 19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hecker dir="horz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" dur="10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5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5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5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5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5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5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5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5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60093"/>
                </a:solidFill>
                <a:latin typeface="Arial"/>
              </a:rPr>
              <a:t>Godzilla’s Career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First appearance-197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Latest appearance-200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Battles </a:t>
            </a:r>
            <a:r>
              <a:rPr b="0" i="1" lang="en-US" sz="3200" spc="-1" strike="noStrike">
                <a:solidFill>
                  <a:srgbClr val="00ff00"/>
                </a:solidFill>
                <a:latin typeface="Arial"/>
              </a:rPr>
              <a:t>King Ko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American=</a:t>
            </a:r>
            <a:r>
              <a:rPr b="0" i="1" lang="en-US" sz="3200" spc="-1" strike="noStrike">
                <a:solidFill>
                  <a:srgbClr val="00ff00"/>
                </a:solidFill>
                <a:latin typeface="Arial"/>
              </a:rPr>
              <a:t>King Kong 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wi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Japanese=</a:t>
            </a:r>
            <a:r>
              <a:rPr b="0" i="1" lang="en-US" sz="3200" spc="-1" strike="noStrike">
                <a:solidFill>
                  <a:srgbClr val="00ff00"/>
                </a:solidFill>
                <a:latin typeface="Arial"/>
              </a:rPr>
              <a:t>Godzilla 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wi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5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5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5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5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5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5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5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5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5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5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5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5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5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5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5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5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"/>
          <p:cNvSpPr txBox="1"/>
          <p:nvPr/>
        </p:nvSpPr>
        <p:spPr>
          <a:xfrm rot="5400000">
            <a:off x="9067680" y="6743520"/>
            <a:ext cx="152280" cy="76320"/>
          </a:xfrm>
          <a:prstGeom prst="rect">
            <a:avLst/>
          </a:prstGeom>
        </p:spPr>
        <p:txBody>
          <a:bodyPr wrap="none" lIns="90000" rIns="90000" tIns="29520" bIns="2952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Arial Black"/>
              </a:rPr>
              <a:t>THE   EN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Arial Black"/>
              <a:ea typeface="Arial Black"/>
            </a:endParaRPr>
          </a:p>
        </p:txBody>
      </p:sp>
      <p:sp>
        <p:nvSpPr>
          <p:cNvPr id="568" name=""/>
          <p:cNvSpPr txBox="1"/>
          <p:nvPr/>
        </p:nvSpPr>
        <p:spPr>
          <a:xfrm rot="187800">
            <a:off x="534960" y="380520"/>
            <a:ext cx="8305920" cy="6324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THE END!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6T16:16:16Z</dcterms:created>
  <dc:creator>Michelle Crawford</dc:creator>
  <dc:description/>
  <dc:language>en-US</dc:language>
  <cp:lastModifiedBy>Bruce Day</cp:lastModifiedBy>
  <dcterms:modified xsi:type="dcterms:W3CDTF">2009-05-12T16:02:27Z</dcterms:modified>
  <cp:revision>6</cp:revision>
  <dc:subject/>
  <dc:title>Slide 1</dc:title>
</cp:coreProperties>
</file>