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19D-688C-4109-B623-9FE8EFC8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702-6668-46F5-BF76-7953CF2B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2B4-FCBE-445A-B28D-F908A0D8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D48-108A-441D-BD88-C46EB091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1044-82DC-4AE2-B12B-053EA33E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D1CEC-27FD-4618-AA38-CC40F30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10980-BD0B-4483-A210-D00ACE5F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41E79-1DA9-41BE-B58A-167DB088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FDC9C-3748-4E36-B978-5222DFF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8D573-3BF8-4226-A05D-E3E1CE1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3A8E1-01F8-40CC-8DC1-CED0318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FFD-2A68-4AB3-B017-33E4FDE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25529-5A4E-4C71-B4A5-9366F79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D357-1597-4B09-A39C-6B0F18F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BFD84-5B45-408F-B4F5-BBE9760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E8873-9146-4D37-956C-98863157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7FF46-0D00-4355-A40B-0CE8FE36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B5AE-E8C2-4691-885C-3CE0E9F6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0392-BED3-4285-ABB4-1D49A658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F21A-1D39-4976-B52A-F5997F87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D016-B670-4474-8EC0-C3317069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FB63-0783-42F8-B5DC-B12EB47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48E-85AB-4C66-9422-891836F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665F-538F-4B18-A2D6-63379A4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80BE-F01B-4602-B140-7559F2F9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1E13-F3B5-4AA8-A557-C2462CB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CD2D-F576-4A77-8B17-EC6C0053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EDB7-16B7-40F9-B84A-538FA37A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EC37-404C-4328-87D0-C9FA488D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EADA-47D0-4A1E-BA6A-BD8DBF71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AA7F-A5AD-49D0-AC91-5821B212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7479-D17B-4EEA-A1E0-D9B8A80A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F21B-2634-4EC4-B8EA-A2E5BD2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F42-20E9-4422-BCCB-E8D555D3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E5EA-5C99-4455-851D-544FA0F0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667C-4B7F-49FF-9440-36C76C53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0249-5A81-4A6B-A58B-FE7D341C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19C9-A7CA-4F06-AB66-3B3E728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D09E-F25C-46D9-982C-E2B1DBC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D75C7-7C95-413F-8435-0BA62A3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B43D8-D1B1-4C3F-8F58-B60C6B8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70A9-9734-4DF8-B34B-4E1D886D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4012-5279-472F-A766-658ED83F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94FD-9DFD-4FC1-A8E0-CBEC79C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A49-822B-4191-B906-004BBBE0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62D2F-063F-423D-A4D3-65349C6B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6EE3-0416-47EA-94EC-48C263B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5B00-7451-4AF2-9C01-6CF314E9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A6ED-56A5-4E56-8791-31B0650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EA44-61D0-4C4E-9887-BBD5D8D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355AA-2E58-4CCE-B545-225BE8D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0F97-CF28-4C3B-97E1-EDA5E65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C00F-AA38-4F58-B14C-DE26DA8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349C-D0C3-4BF3-9485-BB67C660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6AD9-FDF3-489D-BC34-66C5D6DC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E20-D3C1-4C5C-84D0-C355567F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22189-6E45-4E24-A244-F2F93FD3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04479-8A2F-46A9-A133-395FE60F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63351-BCB9-4F27-9200-F09AA004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4AF3F-D1E1-4661-BDB5-4EAE3FC0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71E79-E00C-47BF-ABA5-8521BDA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0E0EF-D5AD-4C5B-9353-F94D78D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17955-E4E4-4AE6-96D8-AC7C1C0A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8597A-EC1C-426A-A785-E1C49DF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B5A27-E8CB-4CE9-AA85-F1D672B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6F084-DF1C-48FC-BD74-D81ACE6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D5E-5F0F-42A8-84A1-C56CAF3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1A4A8-16AE-4BE2-8F68-F80DF70A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AFD13-5C38-456E-B1E7-02008659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B62A8-3328-4943-ABDC-43AF94CD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E18-02CE-4E60-8026-0375C84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A17-0BF5-4335-9815-FC580F6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C3F8-CC11-43F6-B4C8-508C15845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6E6-F317-4764-8710-3A7834762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915E-2F2B-4CFE-8AA5-7008E06BC97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6341-C0E2-45AB-8A49-A7492655C5C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3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3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8D7-D49F-4BA6-8746-2905785C6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0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674-15C0-465A-BD51-EF17B28CB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external image Godzilla_collage.jpg"/>
          <p:cNvPicPr/>
          <p:nvPr/>
        </p:nvPicPr>
        <p:blipFill>
          <a:blip r:embed="rId2"/>
          <a:stretch/>
        </p:blipFill>
        <p:spPr>
          <a:xfrm>
            <a:off x="6324480" y="43434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763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iley, Maddie, and Je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 rot="20845200">
            <a:off x="-180720" y="582480"/>
            <a:ext cx="9017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ODZILLA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Rampaging Monster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31294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Godzilla is a Japanese monster created by Mr.Tomoyuki Tanaka in 1974. Mr.Tanaka enjoyed horror films as a child, which led him to creating Godzilla. He was inspired by </a:t>
            </a:r>
            <a:r>
              <a:rPr b="1" i="1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King</a:t>
            </a: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Kong</a:t>
            </a: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 films. Godzilla is Mr.Tanaka's way of expressing feelings, so to speak. Ever since his first appearance, people have loved the havoc caused by Godz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600" y="457200"/>
            <a:ext cx="6629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Begining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GODZILLA’S NA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Godzilla got his name from the Japanese word 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ji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He is also known as “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The King of the Monsters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jira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means “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rilla and whale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4572000"/>
            <a:ext cx="3047760" cy="1371600"/>
          </a:xfrm>
          <a:prstGeom prst="cloudCallout">
            <a:avLst>
              <a:gd name="adj1" fmla="val 34689"/>
              <a:gd name="adj2" fmla="val 15046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828800" y="5715000"/>
            <a:ext cx="4572000" cy="914400"/>
          </a:xfrm>
          <a:prstGeom prst="lightningBolt">
            <a:avLst/>
          </a:prstGeom>
          <a:solidFill>
            <a:srgbClr val="cdc40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80c283"/>
                </a:solidFill>
                <a:uFillTx/>
                <a:latin typeface="Castellar"/>
              </a:rPr>
              <a:t>Tomoyuki Tanak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464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Died at age 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Creator of </a:t>
            </a:r>
            <a:r>
              <a:rPr b="0" i="1" lang="en-US" sz="2800" spc="-1" strike="noStrike">
                <a:solidFill>
                  <a:srgbClr val="7e538f"/>
                </a:solidFill>
                <a:latin typeface="Book Antiqua"/>
              </a:rPr>
              <a:t>Godz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Inspired by</a:t>
            </a:r>
            <a:r>
              <a:rPr b="0" i="1" lang="en-US" sz="2800" spc="-1" strike="noStrike">
                <a:solidFill>
                  <a:srgbClr val="7e538f"/>
                </a:solidFill>
                <a:latin typeface="Book Antiqua"/>
              </a:rPr>
              <a:t> King K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Born on April 26, 19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Died on April 2,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Godzilla’s Care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rst appearance-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atest appearance-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attles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King K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merican=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King Kong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apanese=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odzill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 rot="5400000">
            <a:off x="9067680" y="6743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E 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 rot="187800">
            <a:off x="534960" y="380520"/>
            <a:ext cx="8305920" cy="632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6:16:16Z</dcterms:created>
  <dc:creator>Michelle Crawford</dc:creator>
  <dc:description/>
  <dc:language>en-US</dc:language>
  <cp:lastModifiedBy>Bruce Day</cp:lastModifiedBy>
  <dcterms:modified xsi:type="dcterms:W3CDTF">2009-05-12T16:02:27Z</dcterms:modified>
  <cp:revision>6</cp:revision>
  <dc:subject/>
  <dc:title>Slide 1</dc:title>
</cp:coreProperties>
</file>