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AFF-9F1C-44D1-9101-08A5A7C0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5E1-734D-46D0-81C5-91F99F5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822-EE73-464E-BC26-59EA9853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086-E631-4047-ADC7-988BCD5F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17689-215F-4F00-8885-A957483A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C302-204E-4D0A-9B15-BCB9CAA0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6EA6-9AFF-40F6-BD64-F343F829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DB8EE-B3BF-42AE-B56F-25036077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71353-F85B-4074-952A-5F3C62FF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1EEEB-71E0-4E3A-8349-DEF2E486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380CD-7F1D-4536-AB11-F9F2B94F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6B0-F626-4F5C-8FED-CCB8A568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05E0B-CD26-4C60-946B-FC82387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686A3-A5D0-4E52-BCC5-053C983C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0B2E3-9C8E-4BBF-8700-0D06614C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87857-FD2E-49A6-8569-91C227E0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267D4-7382-4851-81A9-C49120DF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6BA4-5637-4836-B0C2-762E6658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FE07-0499-4BA1-B860-8C4826A8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5825-9390-438E-BA61-90EE705C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6F01-C6AB-463A-9A64-0E0D818B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F5A6-EB64-440C-AEB2-4E140CE6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9B9-441E-4846-9CB1-B82827CD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E047-1C96-453D-AC39-86CC9BBE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4837-3706-4A3D-8A56-E5F54AC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3EFA-6D65-4917-B75A-9216E71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E643-A304-4B16-98D2-AB8876A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7132-264A-4362-8C93-A7523086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643D-85F8-446E-8157-8F1C217A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66D9-8A14-45A2-B506-064CDAA2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391F-6698-44E2-83EE-5AE8EE66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2C09C-7693-4950-8493-A7C00835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FF1C-F49B-4149-ABAD-89EC59DD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B2B-552A-4400-B0CC-9A1D4A6A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C4903-C756-45E3-B24E-347DE12A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8C4D7-849D-475D-BD9A-5945127A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D78D-EC63-40CA-98EB-9D3BA408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CBEF-1E4D-40C1-A2BF-E56AA4D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C43A-E6B8-4F5A-AAD3-54BA5AAF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35962-1D92-4818-91F7-2F61492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8ABC-411A-4B0A-94B9-1E0E9EE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4F332-E7AC-49D3-88D8-29282E71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DDD6-9AD8-4C20-9221-89191A97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0F62-1441-44A7-8A3C-D366F120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100-0701-4510-8DFC-087CF04F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6DF99-F4BC-4312-A44A-D4B4F8A8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DFDFE-6F17-4A43-A82E-42A41F61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FDB83-AB0F-4EA3-8260-0C78EDAC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A977-FA73-4D8B-9C1B-4B6D1180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22B5-4EC8-46A7-B0DE-FD2F3ED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E9E3D-C4F2-44B1-8D81-0F08F89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3BCF0-457B-498C-B6D0-867E2DC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F0AC-901B-4644-81B2-B89D144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A5B28-394B-4732-B899-71C58F37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B97D-69F2-4674-8899-8A2D917F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DC5-D120-43A5-A26A-EDC1762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184B-50C6-49F2-B2D1-BA2DC0FC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AE6F0-35C4-4CE0-999D-8BE58B36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438D1-E3D1-477A-A6A9-D4484AD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6F50D-77C9-4F07-83A1-BC3C1BE9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0F58A-64AA-447C-A394-63B324CF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A75E4-A53A-4E32-A4B9-D971EDAF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FFE65-1834-4B28-B778-1475F82F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3FF65-FBC0-4225-912B-F73D0D9F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6CE8A-F782-4E2D-926F-74DFB9AE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0C4B8-98A0-4F71-9BEC-813903A1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379-1427-47C1-AF98-85BEA1DA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51468-A2C4-42FF-B40C-98059772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BF574-B0C9-488B-833B-BDA4E1A1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ECBAC-7ADB-43BB-B7B2-55963EA1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E2A-301F-47EB-96CA-68275CA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54D-E71F-46F0-847F-948FC6C7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9421-7B35-415C-8840-E3FE54630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211-836E-4D13-ACAC-86F8E6E66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2245-FDFF-4028-A4B6-0F6E649D2FA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6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50B4-08B2-4B9D-A06C-FA1518B4D98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3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3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CE79-3CBF-4632-B585-091ED16835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0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C134-8837-4758-9DB6-E7EC03272E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external image Godzilla_collage.jpg"/>
          <p:cNvPicPr/>
          <p:nvPr/>
        </p:nvPicPr>
        <p:blipFill>
          <a:blip r:embed="rId2"/>
          <a:stretch/>
        </p:blipFill>
        <p:spPr>
          <a:xfrm>
            <a:off x="6324480" y="43434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763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iley, Maddie, and Jes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 rot="20845200">
            <a:off x="-180720" y="582480"/>
            <a:ext cx="9017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ODZILLA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Rampaging Monster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31294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Godzilla is a Japanese monster created by Mr.Tomoyuki Tanaka in 1974. Mr.Tanaka enjoyed horror films as a child, which led him to creating Godzilla. He was inspired by </a:t>
            </a:r>
            <a:r>
              <a:rPr b="1" i="1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King</a:t>
            </a:r>
            <a:r>
              <a:rPr b="0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Kong</a:t>
            </a:r>
            <a:r>
              <a:rPr b="0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 films. Godzilla is Mr.Tanaka's way of expressing feelings, so to speak. Ever since his first appearance, people have loved the havoc caused by Godz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8600" y="457200"/>
            <a:ext cx="6629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Begining.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GODZILLA’S NA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Godzilla got his name from the Japanese word 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Goji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He is also known as “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The King of the Monsters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Gojira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means “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gorilla and whale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4572000"/>
            <a:ext cx="3047760" cy="1371600"/>
          </a:xfrm>
          <a:prstGeom prst="cloudCallout">
            <a:avLst>
              <a:gd name="adj1" fmla="val 34689"/>
              <a:gd name="adj2" fmla="val 15046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828800" y="5715000"/>
            <a:ext cx="4572000" cy="914400"/>
          </a:xfrm>
          <a:prstGeom prst="lightningBolt">
            <a:avLst/>
          </a:prstGeom>
          <a:solidFill>
            <a:srgbClr val="cdc40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80c283"/>
                </a:solidFill>
                <a:uFillTx/>
                <a:latin typeface="Castellar"/>
              </a:rPr>
              <a:t>Tomoyuki Tanak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464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Died at age 8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Creator of </a:t>
            </a:r>
            <a:r>
              <a:rPr b="0" i="1" lang="en-US" sz="2800" spc="-1" strike="noStrike">
                <a:solidFill>
                  <a:srgbClr val="7e538f"/>
                </a:solidFill>
                <a:latin typeface="Book Antiqua"/>
              </a:rPr>
              <a:t>Godz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Inspired by</a:t>
            </a:r>
            <a:r>
              <a:rPr b="0" i="1" lang="en-US" sz="2800" spc="-1" strike="noStrike">
                <a:solidFill>
                  <a:srgbClr val="7e538f"/>
                </a:solidFill>
                <a:latin typeface="Book Antiqua"/>
              </a:rPr>
              <a:t> King K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Born on April 26, 19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Died on April 2, 19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Godzilla’s Care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irst appearance-19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Latest appearance-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attles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King K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merican=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King Kong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Japanese=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odzill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 rot="5400000">
            <a:off x="9067680" y="6743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E 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 txBox="1"/>
          <p:nvPr/>
        </p:nvSpPr>
        <p:spPr>
          <a:xfrm rot="187800">
            <a:off x="534960" y="380520"/>
            <a:ext cx="8305920" cy="632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END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6:16:16Z</dcterms:created>
  <dc:creator>Michelle Crawford</dc:creator>
  <dc:description/>
  <dc:language>en-US</dc:language>
  <cp:lastModifiedBy>Bruce Day</cp:lastModifiedBy>
  <dcterms:modified xsi:type="dcterms:W3CDTF">2009-05-12T16:02:27Z</dcterms:modified>
  <cp:revision>6</cp:revision>
  <dc:subject/>
  <dc:title>Slide 1</dc:title>
</cp:coreProperties>
</file>